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35783"/>
        <c:axId val="11233886"/>
      </c:barChart>
      <c:catAx>
        <c:axId val="74335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33886"/>
        <c:crosses val="autoZero"/>
        <c:auto val="1"/>
        <c:lblAlgn val="ctr"/>
        <c:lblOffset val="100"/>
        <c:noMultiLvlLbl val="0"/>
      </c:catAx>
      <c:valAx>
        <c:axId val="11233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35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58E-ACC5-4B0C-B120-70729ECF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E4B-102E-4304-B2C8-7CA836D4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54B-902D-4907-988D-39A0A1A4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92B-8F46-4CE9-B211-6736E528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624-B9DA-4C8B-B624-F3E34A89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D0C-A9C9-4714-8D49-6FDE2E8B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360-9F53-43B2-B857-C696EAE3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6F3-AE8D-4C2B-85CB-C2C0C39C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867-2D83-47A3-8D02-45FA9E8F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F10-E846-4453-BA21-61474CB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7C1-A561-4598-8D56-9786B96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7FF-5F21-43F5-B7BD-0002D07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E73E1-62B4-4024-A4F6-3AACE5018C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