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507156"/>
        <c:axId val="95114602"/>
      </c:barChart>
      <c:catAx>
        <c:axId val="955071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114602"/>
        <c:crosses val="autoZero"/>
        <c:auto val="1"/>
        <c:lblAlgn val="ctr"/>
        <c:lblOffset val="100"/>
        <c:noMultiLvlLbl val="0"/>
      </c:catAx>
      <c:valAx>
        <c:axId val="951146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5071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540F-75B1-4B1D-82A1-73A334B4F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5968-7E1F-4487-8D13-C6276DFC7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39B7-E907-4392-AD88-4DB15EBDC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3EAB-7729-4ADF-875B-1D6E03820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1FC4-EC00-45C9-9FD9-16F7FDFD8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BBF6-1ACF-4575-921E-8BFF9CC80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BF2B-31A3-423F-AC82-51317B986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42B5-881B-4C07-B651-2BBB03787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5172-FFF7-441E-B7CF-EC931F1E2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1144-CA66-4439-8DF9-CC20E9E7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BE49-1BFD-4CF3-BD3B-D03F6D61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3C17-74A3-414D-B298-2D9A0D7C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4F2044-A3DA-4EEC-AF3E-EBA61600EDB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