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44679"/>
        <c:axId val="13335510"/>
      </c:barChart>
      <c:catAx>
        <c:axId val="59844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5510"/>
        <c:crosses val="autoZero"/>
        <c:auto val="1"/>
        <c:lblAlgn val="ctr"/>
        <c:lblOffset val="100"/>
        <c:noMultiLvlLbl val="0"/>
      </c:catAx>
      <c:valAx>
        <c:axId val="13335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44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145-898D-445B-A785-8FE5262E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A8B-A4F8-4ED2-90A4-1D12994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E1B-AF96-42C6-8A30-90E95111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D11-0D47-42BB-BDE2-845065DA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664-ED45-4F31-A77F-285E732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816-D661-4D2E-A86F-9CC64AA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FBF-D6B9-4CC7-9015-59DB984A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2C0-2CB1-4C17-95FF-6096A5D3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165-7AA8-47D7-8838-EDF8E678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AB0-16CA-4C65-ABDC-5C1C361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E1F-7BDC-447C-B2DA-CEC1A1F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633-F211-4DAA-A553-CC5A805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C8937-1AB7-4550-A3F5-3011F65575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