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08154"/>
        <c:axId val="20015118"/>
      </c:barChart>
      <c:catAx>
        <c:axId val="90508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15118"/>
        <c:crosses val="autoZero"/>
        <c:auto val="1"/>
        <c:lblAlgn val="ctr"/>
        <c:lblOffset val="100"/>
        <c:noMultiLvlLbl val="0"/>
      </c:catAx>
      <c:valAx>
        <c:axId val="20015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08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A90-1B22-40AC-9BAF-2B035C45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7F5-13BF-498E-BA26-8332B146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838-F3FA-4C30-9C75-0EE37576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FCDC-30F5-4116-A379-732C2EFC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EAF-793E-4F6D-A5F9-CFD7BEA4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959-F128-489B-98C5-BC60E33C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F93-DDCC-4957-AC9A-4EEDD12F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FFB-5913-4615-BEC9-9DAF9BAC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540-E783-4C29-ACFC-B1D032EC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E3F3-E891-4B76-A16A-CF0FC7E7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D727-21BF-48C7-AF43-70AF0731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4CA-84FB-4ED6-AA8F-BB055672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A7837-1DDD-41A6-B0EC-E8D687AF19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