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A8677-C80A-474B-959C-68FDF30697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4BBB42-6338-4B84-A6E8-F8BF01F1551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4711BF-9293-420B-844C-EA4573A8F0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479426-5E8E-49AD-AC70-B5B25D3B97B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70252-7E7A-488C-BC86-9761500AEE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47580-C93B-4138-A8AB-51A5A9C785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463334-FB18-4DB2-88EC-38A0EA2D65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ECC010-46F4-423B-A59A-CD70927C2C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552F9E-88F4-48BF-9518-9BCBA03FF0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45477D-A0F1-45D1-BEA7-82DD888354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30CB3-3F65-4EBE-9A65-0D47F22554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6D029-D6E2-4EE6-BB36-80FB5788D16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B04B6-27F3-4B16-9829-315C7E0BB42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6372360" y="0"/>
          <a:ext cx="2409840" cy="2409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372360" y="0"/>
                    <a:ext cx="2409840" cy="2409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pSp>
        <p:nvGrpSpPr>
          <p:cNvPr id="43" name=""/>
          <p:cNvGrpSpPr/>
          <p:nvPr/>
        </p:nvGrpSpPr>
        <p:grpSpPr>
          <a:xfrm>
            <a:off x="6588000" y="2708280"/>
            <a:ext cx="2332080" cy="1784520"/>
            <a:chOff x="6588000" y="2708280"/>
            <a:chExt cx="2332080" cy="1784520"/>
          </a:xfrm>
        </p:grpSpPr>
        <p:sp>
          <p:nvSpPr>
            <p:cNvPr id="44" name=""/>
            <p:cNvSpPr/>
            <p:nvPr/>
          </p:nvSpPr>
          <p:spPr>
            <a:xfrm>
              <a:off x="6588000" y="2714760"/>
              <a:ext cx="1730520" cy="17780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 flipH="1">
              <a:off x="6627240" y="2725560"/>
              <a:ext cx="165708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7216920" y="2708280"/>
              <a:ext cx="1703160" cy="17683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7888320" y="2892600"/>
              <a:ext cx="20952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7203960" y="2725560"/>
              <a:ext cx="1708200" cy="17640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7418520" y="2892600"/>
              <a:ext cx="203040" cy="2412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0" name=""/>
          <p:cNvGrpSpPr/>
          <p:nvPr/>
        </p:nvGrpSpPr>
        <p:grpSpPr>
          <a:xfrm>
            <a:off x="363240" y="376200"/>
            <a:ext cx="4074840" cy="3513960"/>
            <a:chOff x="363240" y="376200"/>
            <a:chExt cx="4074840" cy="3513960"/>
          </a:xfrm>
        </p:grpSpPr>
        <p:grpSp>
          <p:nvGrpSpPr>
            <p:cNvPr id="51" name=""/>
            <p:cNvGrpSpPr/>
            <p:nvPr/>
          </p:nvGrpSpPr>
          <p:grpSpPr>
            <a:xfrm>
              <a:off x="1249200" y="376200"/>
              <a:ext cx="2332080" cy="1784520"/>
              <a:chOff x="1249200" y="376200"/>
              <a:chExt cx="2332080" cy="1784520"/>
            </a:xfrm>
          </p:grpSpPr>
          <p:sp>
            <p:nvSpPr>
              <p:cNvPr id="52" name=""/>
              <p:cNvSpPr/>
              <p:nvPr/>
            </p:nvSpPr>
            <p:spPr>
              <a:xfrm>
                <a:off x="1249200" y="38268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"/>
              <p:cNvSpPr/>
              <p:nvPr/>
            </p:nvSpPr>
            <p:spPr>
              <a:xfrm>
                <a:off x="1877760" y="3762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4" name=""/>
              <p:cNvSpPr/>
              <p:nvPr/>
            </p:nvSpPr>
            <p:spPr>
              <a:xfrm>
                <a:off x="2549160" y="56052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865160" y="39384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 flipH="1">
                <a:off x="2078640" y="56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 flipH="1">
                <a:off x="1288800" y="39384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58" name=""/>
            <p:cNvGrpSpPr/>
            <p:nvPr/>
          </p:nvGrpSpPr>
          <p:grpSpPr>
            <a:xfrm>
              <a:off x="1739160" y="978480"/>
              <a:ext cx="2698920" cy="2911680"/>
              <a:chOff x="1739160" y="978480"/>
              <a:chExt cx="2698920" cy="2911680"/>
            </a:xfrm>
          </p:grpSpPr>
          <p:sp>
            <p:nvSpPr>
              <p:cNvPr id="59" name=""/>
              <p:cNvSpPr/>
              <p:nvPr/>
            </p:nvSpPr>
            <p:spPr>
              <a:xfrm rot="7200000">
                <a:off x="2370240" y="128304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 rot="7200000">
                <a:off x="2085840" y="1826280"/>
                <a:ext cx="170352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 rot="7200000">
                <a:off x="3372120" y="2814480"/>
                <a:ext cx="20988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 rot="7200000">
                <a:off x="2075400" y="1812600"/>
                <a:ext cx="170820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 flipH="1" rot="7200000">
                <a:off x="3611520" y="2404440"/>
                <a:ext cx="20340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 flipH="1" rot="7200000">
                <a:off x="2401560" y="1290960"/>
                <a:ext cx="1657440" cy="17632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65" name=""/>
            <p:cNvGrpSpPr/>
            <p:nvPr/>
          </p:nvGrpSpPr>
          <p:grpSpPr>
            <a:xfrm>
              <a:off x="363240" y="986040"/>
              <a:ext cx="2711520" cy="2900880"/>
              <a:chOff x="363240" y="986040"/>
              <a:chExt cx="2711520" cy="2900880"/>
            </a:xfrm>
          </p:grpSpPr>
          <p:sp>
            <p:nvSpPr>
              <p:cNvPr id="66" name=""/>
              <p:cNvSpPr/>
              <p:nvPr/>
            </p:nvSpPr>
            <p:spPr>
              <a:xfrm rot="14400000">
                <a:off x="1006920" y="1803960"/>
                <a:ext cx="173052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 rot="14400000">
                <a:off x="703080" y="1281600"/>
                <a:ext cx="1703520" cy="1768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 rot="14400000">
                <a:off x="985680" y="2400480"/>
                <a:ext cx="2098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9" name=""/>
              <p:cNvSpPr/>
              <p:nvPr/>
            </p:nvSpPr>
            <p:spPr>
              <a:xfrm rot="14400000">
                <a:off x="718920" y="128556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0" name=""/>
              <p:cNvSpPr/>
              <p:nvPr/>
            </p:nvSpPr>
            <p:spPr>
              <a:xfrm flipH="1" rot="14400000">
                <a:off x="1225800" y="2810520"/>
                <a:ext cx="20340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1" name=""/>
              <p:cNvSpPr/>
              <p:nvPr/>
            </p:nvSpPr>
            <p:spPr>
              <a:xfrm flipH="1" rot="14400000">
                <a:off x="1045080" y="1806480"/>
                <a:ext cx="165744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72" name=""/>
          <p:cNvGrpSpPr/>
          <p:nvPr/>
        </p:nvGrpSpPr>
        <p:grpSpPr>
          <a:xfrm>
            <a:off x="6908040" y="4941720"/>
            <a:ext cx="1626480" cy="1402920"/>
            <a:chOff x="6908040" y="4941720"/>
            <a:chExt cx="1626480" cy="1402920"/>
          </a:xfrm>
        </p:grpSpPr>
        <p:grpSp>
          <p:nvGrpSpPr>
            <p:cNvPr id="73" name=""/>
            <p:cNvGrpSpPr/>
            <p:nvPr/>
          </p:nvGrpSpPr>
          <p:grpSpPr>
            <a:xfrm>
              <a:off x="7261560" y="4941720"/>
              <a:ext cx="931320" cy="712800"/>
              <a:chOff x="7261560" y="4941720"/>
              <a:chExt cx="931320" cy="712800"/>
            </a:xfrm>
          </p:grpSpPr>
          <p:sp>
            <p:nvSpPr>
              <p:cNvPr id="74" name=""/>
              <p:cNvSpPr/>
              <p:nvPr/>
            </p:nvSpPr>
            <p:spPr>
              <a:xfrm>
                <a:off x="7261560" y="4944240"/>
                <a:ext cx="691200" cy="7102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5" name=""/>
              <p:cNvSpPr/>
              <p:nvPr/>
            </p:nvSpPr>
            <p:spPr>
              <a:xfrm>
                <a:off x="7512480" y="4941720"/>
                <a:ext cx="680400" cy="70668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6" name=""/>
              <p:cNvSpPr/>
              <p:nvPr/>
            </p:nvSpPr>
            <p:spPr>
              <a:xfrm>
                <a:off x="7780680" y="50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7" name=""/>
              <p:cNvSpPr/>
              <p:nvPr/>
            </p:nvSpPr>
            <p:spPr>
              <a:xfrm>
                <a:off x="7507440" y="4948560"/>
                <a:ext cx="68220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8" name=""/>
              <p:cNvSpPr/>
              <p:nvPr/>
            </p:nvSpPr>
            <p:spPr>
              <a:xfrm flipH="1">
                <a:off x="7592400" y="501516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79" name=""/>
              <p:cNvSpPr/>
              <p:nvPr/>
            </p:nvSpPr>
            <p:spPr>
              <a:xfrm flipH="1">
                <a:off x="7276320" y="4948560"/>
                <a:ext cx="662040" cy="70452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0" name=""/>
            <p:cNvGrpSpPr/>
            <p:nvPr/>
          </p:nvGrpSpPr>
          <p:grpSpPr>
            <a:xfrm>
              <a:off x="7457040" y="5181840"/>
              <a:ext cx="1077480" cy="1162800"/>
              <a:chOff x="7457040" y="5181840"/>
              <a:chExt cx="1077480" cy="1162800"/>
            </a:xfrm>
          </p:grpSpPr>
          <p:sp>
            <p:nvSpPr>
              <p:cNvPr id="81" name=""/>
              <p:cNvSpPr/>
              <p:nvPr/>
            </p:nvSpPr>
            <p:spPr>
              <a:xfrm rot="7200000">
                <a:off x="7708680" y="530352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2" name=""/>
              <p:cNvSpPr/>
              <p:nvPr/>
            </p:nvSpPr>
            <p:spPr>
              <a:xfrm rot="7200000">
                <a:off x="7594560" y="551988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3" name=""/>
              <p:cNvSpPr/>
              <p:nvPr/>
            </p:nvSpPr>
            <p:spPr>
              <a:xfrm rot="7200000">
                <a:off x="8109000" y="59151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4" name=""/>
              <p:cNvSpPr/>
              <p:nvPr/>
            </p:nvSpPr>
            <p:spPr>
              <a:xfrm rot="7200000">
                <a:off x="7590960" y="55148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5" name=""/>
              <p:cNvSpPr/>
              <p:nvPr/>
            </p:nvSpPr>
            <p:spPr>
              <a:xfrm flipH="1" rot="7200000">
                <a:off x="8204400" y="575100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6" name=""/>
              <p:cNvSpPr/>
              <p:nvPr/>
            </p:nvSpPr>
            <p:spPr>
              <a:xfrm flipH="1" rot="7200000">
                <a:off x="7721280" y="530640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87" name=""/>
            <p:cNvGrpSpPr/>
            <p:nvPr/>
          </p:nvGrpSpPr>
          <p:grpSpPr>
            <a:xfrm>
              <a:off x="6908040" y="5184720"/>
              <a:ext cx="1082520" cy="1158480"/>
              <a:chOff x="6908040" y="5184720"/>
              <a:chExt cx="1082520" cy="1158480"/>
            </a:xfrm>
          </p:grpSpPr>
          <p:sp>
            <p:nvSpPr>
              <p:cNvPr id="88" name=""/>
              <p:cNvSpPr/>
              <p:nvPr/>
            </p:nvSpPr>
            <p:spPr>
              <a:xfrm rot="14400000">
                <a:off x="7164360" y="5511240"/>
                <a:ext cx="691200" cy="70992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rot="14400000">
                <a:off x="7043760" y="5302800"/>
                <a:ext cx="680400" cy="706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rot="14400000">
                <a:off x="7156440" y="5749560"/>
                <a:ext cx="8352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rot="14400000">
                <a:off x="7049520" y="5304240"/>
                <a:ext cx="68220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H="1" rot="14400000">
                <a:off x="7251840" y="5913720"/>
                <a:ext cx="81000" cy="9612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3" name=""/>
              <p:cNvSpPr/>
              <p:nvPr/>
            </p:nvSpPr>
            <p:spPr>
              <a:xfrm flipH="1" rot="14400000">
                <a:off x="7179480" y="5512680"/>
                <a:ext cx="662040" cy="70416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94" name=""/>
          <p:cNvGrpSpPr/>
          <p:nvPr/>
        </p:nvGrpSpPr>
        <p:grpSpPr>
          <a:xfrm>
            <a:off x="5040" y="404640"/>
            <a:ext cx="4146840" cy="3558600"/>
            <a:chOff x="5040" y="404640"/>
            <a:chExt cx="4146840" cy="3558600"/>
          </a:xfrm>
        </p:grpSpPr>
        <p:grpSp>
          <p:nvGrpSpPr>
            <p:cNvPr id="95" name=""/>
            <p:cNvGrpSpPr/>
            <p:nvPr/>
          </p:nvGrpSpPr>
          <p:grpSpPr>
            <a:xfrm>
              <a:off x="901440" y="404640"/>
              <a:ext cx="2331360" cy="1784520"/>
              <a:chOff x="901440" y="404640"/>
              <a:chExt cx="2331360" cy="1784520"/>
            </a:xfrm>
          </p:grpSpPr>
          <p:sp>
            <p:nvSpPr>
              <p:cNvPr id="96" name=""/>
              <p:cNvSpPr/>
              <p:nvPr/>
            </p:nvSpPr>
            <p:spPr>
              <a:xfrm>
                <a:off x="901440" y="411120"/>
                <a:ext cx="1730160" cy="17780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7" name=""/>
              <p:cNvSpPr/>
              <p:nvPr/>
            </p:nvSpPr>
            <p:spPr>
              <a:xfrm flipH="1">
                <a:off x="941040" y="421920"/>
                <a:ext cx="165672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8" name=""/>
              <p:cNvSpPr/>
              <p:nvPr/>
            </p:nvSpPr>
            <p:spPr>
              <a:xfrm>
                <a:off x="1530000" y="404640"/>
                <a:ext cx="1702800" cy="176832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99" name=""/>
              <p:cNvSpPr/>
              <p:nvPr/>
            </p:nvSpPr>
            <p:spPr>
              <a:xfrm>
                <a:off x="2201400" y="588960"/>
                <a:ext cx="20916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0" name=""/>
              <p:cNvSpPr/>
              <p:nvPr/>
            </p:nvSpPr>
            <p:spPr>
              <a:xfrm>
                <a:off x="1517040" y="421920"/>
                <a:ext cx="1707840" cy="176400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flipH="1">
                <a:off x="1730880" y="588960"/>
                <a:ext cx="202680" cy="24120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2" name=""/>
            <p:cNvGrpSpPr/>
            <p:nvPr/>
          </p:nvGrpSpPr>
          <p:grpSpPr>
            <a:xfrm>
              <a:off x="1452960" y="1051560"/>
              <a:ext cx="2698920" cy="2911680"/>
              <a:chOff x="1452960" y="1051560"/>
              <a:chExt cx="2698920" cy="2911680"/>
            </a:xfrm>
          </p:grpSpPr>
          <p:sp>
            <p:nvSpPr>
              <p:cNvPr id="103" name=""/>
              <p:cNvSpPr/>
              <p:nvPr/>
            </p:nvSpPr>
            <p:spPr>
              <a:xfrm rot="7200000">
                <a:off x="2084040" y="135612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4" name=""/>
              <p:cNvSpPr/>
              <p:nvPr/>
            </p:nvSpPr>
            <p:spPr>
              <a:xfrm flipH="1" rot="7200000">
                <a:off x="2116440" y="136404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7200000">
                <a:off x="1799640" y="189972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7200000">
                <a:off x="3085920" y="288792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7" name=""/>
              <p:cNvSpPr/>
              <p:nvPr/>
            </p:nvSpPr>
            <p:spPr>
              <a:xfrm rot="7200000">
                <a:off x="1789200" y="188532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08" name=""/>
              <p:cNvSpPr/>
              <p:nvPr/>
            </p:nvSpPr>
            <p:spPr>
              <a:xfrm flipH="1" rot="7200000">
                <a:off x="3325320" y="247788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09" name=""/>
            <p:cNvGrpSpPr/>
            <p:nvPr/>
          </p:nvGrpSpPr>
          <p:grpSpPr>
            <a:xfrm>
              <a:off x="5040" y="1059480"/>
              <a:ext cx="2710440" cy="2900880"/>
              <a:chOff x="5040" y="1059480"/>
              <a:chExt cx="2710440" cy="2900880"/>
            </a:xfrm>
          </p:grpSpPr>
          <p:sp>
            <p:nvSpPr>
              <p:cNvPr id="110" name=""/>
              <p:cNvSpPr/>
              <p:nvPr/>
            </p:nvSpPr>
            <p:spPr>
              <a:xfrm rot="14400000">
                <a:off x="647640" y="1877760"/>
                <a:ext cx="1730520" cy="17776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1" name=""/>
              <p:cNvSpPr/>
              <p:nvPr/>
            </p:nvSpPr>
            <p:spPr>
              <a:xfrm flipH="1" rot="14400000">
                <a:off x="686520" y="1879920"/>
                <a:ext cx="165708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2" name=""/>
              <p:cNvSpPr/>
              <p:nvPr/>
            </p:nvSpPr>
            <p:spPr>
              <a:xfrm rot="14400000">
                <a:off x="344520" y="1355040"/>
                <a:ext cx="1703160" cy="176796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rot="14400000">
                <a:off x="627120" y="2473560"/>
                <a:ext cx="20952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rot="14400000">
                <a:off x="360000" y="1359000"/>
                <a:ext cx="1708200" cy="17636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5" name=""/>
              <p:cNvSpPr/>
              <p:nvPr/>
            </p:nvSpPr>
            <p:spPr>
              <a:xfrm flipH="1" rot="14400000">
                <a:off x="866520" y="2883600"/>
                <a:ext cx="203040" cy="2408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116" name=""/>
          <p:cNvGrpSpPr/>
          <p:nvPr/>
        </p:nvGrpSpPr>
        <p:grpSpPr>
          <a:xfrm>
            <a:off x="3760560" y="4221000"/>
            <a:ext cx="2102040" cy="1804320"/>
            <a:chOff x="3760560" y="4221000"/>
            <a:chExt cx="2102040" cy="1804320"/>
          </a:xfrm>
        </p:grpSpPr>
        <p:grpSp>
          <p:nvGrpSpPr>
            <p:cNvPr id="117" name=""/>
            <p:cNvGrpSpPr/>
            <p:nvPr/>
          </p:nvGrpSpPr>
          <p:grpSpPr>
            <a:xfrm>
              <a:off x="4215240" y="4221000"/>
              <a:ext cx="1181520" cy="904680"/>
              <a:chOff x="4215240" y="4221000"/>
              <a:chExt cx="1181520" cy="904680"/>
            </a:xfrm>
          </p:grpSpPr>
          <p:sp>
            <p:nvSpPr>
              <p:cNvPr id="118" name=""/>
              <p:cNvSpPr/>
              <p:nvPr/>
            </p:nvSpPr>
            <p:spPr>
              <a:xfrm>
                <a:off x="4215240" y="4224240"/>
                <a:ext cx="876960" cy="90144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19" name=""/>
              <p:cNvSpPr/>
              <p:nvPr/>
            </p:nvSpPr>
            <p:spPr>
              <a:xfrm flipH="1">
                <a:off x="4234680" y="4229640"/>
                <a:ext cx="83988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0" name=""/>
              <p:cNvSpPr/>
              <p:nvPr/>
            </p:nvSpPr>
            <p:spPr>
              <a:xfrm>
                <a:off x="4533840" y="4221000"/>
                <a:ext cx="862920" cy="89640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1" name=""/>
              <p:cNvSpPr/>
              <p:nvPr/>
            </p:nvSpPr>
            <p:spPr>
              <a:xfrm>
                <a:off x="4874040" y="4314240"/>
                <a:ext cx="10584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2" name=""/>
              <p:cNvSpPr/>
              <p:nvPr/>
            </p:nvSpPr>
            <p:spPr>
              <a:xfrm>
                <a:off x="4527360" y="4229640"/>
                <a:ext cx="865800" cy="89424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3" name=""/>
              <p:cNvSpPr/>
              <p:nvPr/>
            </p:nvSpPr>
            <p:spPr>
              <a:xfrm flipH="1">
                <a:off x="4635360" y="4314240"/>
                <a:ext cx="1026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24" name=""/>
            <p:cNvGrpSpPr/>
            <p:nvPr/>
          </p:nvGrpSpPr>
          <p:grpSpPr>
            <a:xfrm>
              <a:off x="4494600" y="4548600"/>
              <a:ext cx="1368000" cy="1476720"/>
              <a:chOff x="4494600" y="4548600"/>
              <a:chExt cx="1368000" cy="1476720"/>
            </a:xfrm>
          </p:grpSpPr>
          <p:sp>
            <p:nvSpPr>
              <p:cNvPr id="125" name=""/>
              <p:cNvSpPr/>
              <p:nvPr/>
            </p:nvSpPr>
            <p:spPr>
              <a:xfrm rot="7200000">
                <a:off x="4813920" y="470340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6" name=""/>
              <p:cNvSpPr/>
              <p:nvPr/>
            </p:nvSpPr>
            <p:spPr>
              <a:xfrm flipH="1" rot="7200000">
                <a:off x="4830120" y="470736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7" name=""/>
              <p:cNvSpPr/>
              <p:nvPr/>
            </p:nvSpPr>
            <p:spPr>
              <a:xfrm rot="7200000">
                <a:off x="4669920" y="497916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8" name=""/>
              <p:cNvSpPr/>
              <p:nvPr/>
            </p:nvSpPr>
            <p:spPr>
              <a:xfrm rot="7200000">
                <a:off x="5322240" y="547956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29" name=""/>
              <p:cNvSpPr/>
              <p:nvPr/>
            </p:nvSpPr>
            <p:spPr>
              <a:xfrm rot="7200000">
                <a:off x="4664880" y="497160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0" name=""/>
              <p:cNvSpPr/>
              <p:nvPr/>
            </p:nvSpPr>
            <p:spPr>
              <a:xfrm flipH="1" rot="7200000">
                <a:off x="5443200" y="527220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  <p:grpSp>
          <p:nvGrpSpPr>
            <p:cNvPr id="131" name=""/>
            <p:cNvGrpSpPr/>
            <p:nvPr/>
          </p:nvGrpSpPr>
          <p:grpSpPr>
            <a:xfrm>
              <a:off x="3760560" y="4552920"/>
              <a:ext cx="1374480" cy="1470600"/>
              <a:chOff x="3760560" y="4552920"/>
              <a:chExt cx="1374480" cy="1470600"/>
            </a:xfrm>
          </p:grpSpPr>
          <p:sp>
            <p:nvSpPr>
              <p:cNvPr id="132" name=""/>
              <p:cNvSpPr/>
              <p:nvPr/>
            </p:nvSpPr>
            <p:spPr>
              <a:xfrm rot="14400000">
                <a:off x="4086360" y="4967640"/>
                <a:ext cx="877680" cy="901080"/>
              </a:xfrm>
              <a:custGeom>
                <a:avLst/>
                <a:gdLst/>
                <a:ahLst/>
                <a:rect l="l" t="t" r="r" b="b"/>
                <a:pathLst>
                  <a:path w="1090" h="1120">
                    <a:moveTo>
                      <a:pt x="548" y="45"/>
                    </a:moveTo>
                    <a:cubicBezTo>
                      <a:pt x="474" y="22"/>
                      <a:pt x="301" y="0"/>
                      <a:pt x="219" y="39"/>
                    </a:cubicBezTo>
                    <a:cubicBezTo>
                      <a:pt x="137" y="78"/>
                      <a:pt x="76" y="176"/>
                      <a:pt x="54" y="280"/>
                    </a:cubicBezTo>
                    <a:cubicBezTo>
                      <a:pt x="32" y="384"/>
                      <a:pt x="0" y="594"/>
                      <a:pt x="86" y="663"/>
                    </a:cubicBezTo>
                    <a:cubicBezTo>
                      <a:pt x="172" y="732"/>
                      <a:pt x="463" y="672"/>
                      <a:pt x="570" y="697"/>
                    </a:cubicBezTo>
                    <a:cubicBezTo>
                      <a:pt x="677" y="722"/>
                      <a:pt x="699" y="747"/>
                      <a:pt x="732" y="812"/>
                    </a:cubicBezTo>
                    <a:cubicBezTo>
                      <a:pt x="765" y="877"/>
                      <a:pt x="723" y="1054"/>
                      <a:pt x="768" y="1087"/>
                    </a:cubicBezTo>
                    <a:cubicBezTo>
                      <a:pt x="813" y="1120"/>
                      <a:pt x="952" y="1060"/>
                      <a:pt x="1004" y="1009"/>
                    </a:cubicBezTo>
                    <a:cubicBezTo>
                      <a:pt x="1056" y="958"/>
                      <a:pt x="1072" y="845"/>
                      <a:pt x="1080" y="780"/>
                    </a:cubicBezTo>
                    <a:cubicBezTo>
                      <a:pt x="1088" y="715"/>
                      <a:pt x="1090" y="685"/>
                      <a:pt x="1053" y="621"/>
                    </a:cubicBezTo>
                    <a:cubicBezTo>
                      <a:pt x="1016" y="557"/>
                      <a:pt x="965" y="435"/>
                      <a:pt x="855" y="395"/>
                    </a:cubicBezTo>
                    <a:cubicBezTo>
                      <a:pt x="745" y="355"/>
                      <a:pt x="462" y="394"/>
                      <a:pt x="395" y="384"/>
                    </a:cubicBezTo>
                    <a:cubicBezTo>
                      <a:pt x="328" y="374"/>
                      <a:pt x="407" y="339"/>
                      <a:pt x="455" y="335"/>
                    </a:cubicBezTo>
                    <a:cubicBezTo>
                      <a:pt x="503" y="331"/>
                      <a:pt x="649" y="393"/>
                      <a:pt x="685" y="357"/>
                    </a:cubicBezTo>
                    <a:cubicBezTo>
                      <a:pt x="721" y="321"/>
                      <a:pt x="692" y="173"/>
                      <a:pt x="669" y="121"/>
                    </a:cubicBezTo>
                    <a:cubicBezTo>
                      <a:pt x="646" y="69"/>
                      <a:pt x="573" y="61"/>
                      <a:pt x="548" y="45"/>
                    </a:cubicBezTo>
                    <a:close/>
                  </a:path>
                </a:pathLst>
              </a:custGeom>
              <a:solidFill>
                <a:srgbClr val="ffde52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3" name=""/>
              <p:cNvSpPr/>
              <p:nvPr/>
            </p:nvSpPr>
            <p:spPr>
              <a:xfrm flipH="1" rot="14400000">
                <a:off x="4105440" y="4969080"/>
                <a:ext cx="84024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4" name=""/>
              <p:cNvSpPr/>
              <p:nvPr/>
            </p:nvSpPr>
            <p:spPr>
              <a:xfrm rot="14400000">
                <a:off x="3932280" y="4702680"/>
                <a:ext cx="863640" cy="896040"/>
              </a:xfrm>
              <a:custGeom>
                <a:avLst/>
                <a:gdLst/>
                <a:ahLst/>
                <a:rect l="l" t="t" r="r" b="b"/>
                <a:pathLst>
                  <a:path w="1073" h="1114">
                    <a:moveTo>
                      <a:pt x="459" y="49"/>
                    </a:moveTo>
                    <a:cubicBezTo>
                      <a:pt x="539" y="0"/>
                      <a:pt x="746" y="15"/>
                      <a:pt x="838" y="32"/>
                    </a:cubicBezTo>
                    <a:cubicBezTo>
                      <a:pt x="930" y="49"/>
                      <a:pt x="987" y="45"/>
                      <a:pt x="1013" y="153"/>
                    </a:cubicBezTo>
                    <a:cubicBezTo>
                      <a:pt x="1039" y="261"/>
                      <a:pt x="1073" y="586"/>
                      <a:pt x="997" y="679"/>
                    </a:cubicBezTo>
                    <a:cubicBezTo>
                      <a:pt x="921" y="772"/>
                      <a:pt x="669" y="687"/>
                      <a:pt x="558" y="712"/>
                    </a:cubicBezTo>
                    <a:cubicBezTo>
                      <a:pt x="447" y="737"/>
                      <a:pt x="369" y="767"/>
                      <a:pt x="333" y="828"/>
                    </a:cubicBezTo>
                    <a:cubicBezTo>
                      <a:pt x="297" y="889"/>
                      <a:pt x="386" y="1047"/>
                      <a:pt x="339" y="1080"/>
                    </a:cubicBezTo>
                    <a:cubicBezTo>
                      <a:pt x="292" y="1113"/>
                      <a:pt x="105" y="1114"/>
                      <a:pt x="53" y="1025"/>
                    </a:cubicBezTo>
                    <a:cubicBezTo>
                      <a:pt x="1" y="936"/>
                      <a:pt x="0" y="650"/>
                      <a:pt x="26" y="548"/>
                    </a:cubicBezTo>
                    <a:cubicBezTo>
                      <a:pt x="52" y="446"/>
                      <a:pt x="98" y="436"/>
                      <a:pt x="207" y="411"/>
                    </a:cubicBezTo>
                    <a:cubicBezTo>
                      <a:pt x="316" y="386"/>
                      <a:pt x="603" y="413"/>
                      <a:pt x="679" y="400"/>
                    </a:cubicBezTo>
                    <a:cubicBezTo>
                      <a:pt x="755" y="387"/>
                      <a:pt x="716" y="346"/>
                      <a:pt x="662" y="334"/>
                    </a:cubicBezTo>
                    <a:cubicBezTo>
                      <a:pt x="608" y="322"/>
                      <a:pt x="389" y="376"/>
                      <a:pt x="355" y="328"/>
                    </a:cubicBezTo>
                    <a:cubicBezTo>
                      <a:pt x="321" y="280"/>
                      <a:pt x="383" y="93"/>
                      <a:pt x="459" y="49"/>
                    </a:cubicBezTo>
                    <a:close/>
                  </a:path>
                </a:pathLst>
              </a:custGeom>
              <a:solidFill>
                <a:srgbClr val="397ba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5" name=""/>
              <p:cNvSpPr/>
              <p:nvPr/>
            </p:nvSpPr>
            <p:spPr>
              <a:xfrm rot="14400000">
                <a:off x="4075920" y="5270040"/>
                <a:ext cx="10620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6" name=""/>
              <p:cNvSpPr/>
              <p:nvPr/>
            </p:nvSpPr>
            <p:spPr>
              <a:xfrm rot="14400000">
                <a:off x="3940560" y="4704480"/>
                <a:ext cx="866160" cy="893880"/>
              </a:xfrm>
              <a:custGeom>
                <a:avLst/>
                <a:gdLst/>
                <a:ahLst/>
                <a:rect l="l" t="t" r="r" b="b"/>
                <a:pathLst>
                  <a:path w="1076" h="1111">
                    <a:moveTo>
                      <a:pt x="1024" y="157"/>
                    </a:moveTo>
                    <a:cubicBezTo>
                      <a:pt x="1062" y="265"/>
                      <a:pt x="1076" y="572"/>
                      <a:pt x="1002" y="662"/>
                    </a:cubicBezTo>
                    <a:cubicBezTo>
                      <a:pt x="928" y="752"/>
                      <a:pt x="680" y="679"/>
                      <a:pt x="579" y="695"/>
                    </a:cubicBezTo>
                    <a:cubicBezTo>
                      <a:pt x="478" y="711"/>
                      <a:pt x="434" y="732"/>
                      <a:pt x="393" y="760"/>
                    </a:cubicBezTo>
                    <a:cubicBezTo>
                      <a:pt x="352" y="788"/>
                      <a:pt x="342" y="813"/>
                      <a:pt x="333" y="865"/>
                    </a:cubicBezTo>
                    <a:cubicBezTo>
                      <a:pt x="324" y="917"/>
                      <a:pt x="371" y="1039"/>
                      <a:pt x="338" y="1073"/>
                    </a:cubicBezTo>
                    <a:cubicBezTo>
                      <a:pt x="305" y="1107"/>
                      <a:pt x="190" y="1111"/>
                      <a:pt x="135" y="1068"/>
                    </a:cubicBezTo>
                    <a:cubicBezTo>
                      <a:pt x="80" y="1025"/>
                      <a:pt x="13" y="920"/>
                      <a:pt x="9" y="815"/>
                    </a:cubicBezTo>
                    <a:cubicBezTo>
                      <a:pt x="5" y="710"/>
                      <a:pt x="0" y="509"/>
                      <a:pt x="108" y="437"/>
                    </a:cubicBezTo>
                    <a:cubicBezTo>
                      <a:pt x="216" y="365"/>
                      <a:pt x="566" y="398"/>
                      <a:pt x="656" y="382"/>
                    </a:cubicBezTo>
                    <a:cubicBezTo>
                      <a:pt x="746" y="366"/>
                      <a:pt x="698" y="346"/>
                      <a:pt x="651" y="338"/>
                    </a:cubicBezTo>
                    <a:cubicBezTo>
                      <a:pt x="604" y="330"/>
                      <a:pt x="404" y="377"/>
                      <a:pt x="371" y="333"/>
                    </a:cubicBezTo>
                    <a:cubicBezTo>
                      <a:pt x="338" y="289"/>
                      <a:pt x="386" y="128"/>
                      <a:pt x="453" y="75"/>
                    </a:cubicBezTo>
                    <a:cubicBezTo>
                      <a:pt x="520" y="22"/>
                      <a:pt x="676" y="0"/>
                      <a:pt x="771" y="14"/>
                    </a:cubicBezTo>
                    <a:cubicBezTo>
                      <a:pt x="866" y="28"/>
                      <a:pt x="986" y="49"/>
                      <a:pt x="1024" y="157"/>
                    </a:cubicBezTo>
                    <a:close/>
                  </a:path>
                </a:pathLst>
              </a:custGeom>
              <a:noFill/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37" name=""/>
              <p:cNvSpPr/>
              <p:nvPr/>
            </p:nvSpPr>
            <p:spPr>
              <a:xfrm flipH="1" rot="14400000">
                <a:off x="4197240" y="5477040"/>
                <a:ext cx="102960" cy="122040"/>
              </a:xfrm>
              <a:custGeom>
                <a:avLst/>
                <a:gdLst/>
                <a:ahLst/>
                <a:rect l="l" t="t" r="r" b="b"/>
                <a:pathLst>
                  <a:path w="132" h="152">
                    <a:moveTo>
                      <a:pt x="110" y="137"/>
                    </a:moveTo>
                    <a:cubicBezTo>
                      <a:pt x="128" y="122"/>
                      <a:pt x="132" y="42"/>
                      <a:pt x="121" y="22"/>
                    </a:cubicBezTo>
                    <a:cubicBezTo>
                      <a:pt x="106" y="6"/>
                      <a:pt x="61" y="0"/>
                      <a:pt x="43" y="15"/>
                    </a:cubicBezTo>
                    <a:cubicBezTo>
                      <a:pt x="25" y="30"/>
                      <a:pt x="0" y="90"/>
                      <a:pt x="11" y="110"/>
                    </a:cubicBezTo>
                    <a:cubicBezTo>
                      <a:pt x="22" y="130"/>
                      <a:pt x="92" y="152"/>
                      <a:pt x="110" y="1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9360">
                <a:solidFill>
                  <a:srgbClr val="0000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38" name=""/>
          <p:cNvGrpSpPr/>
          <p:nvPr/>
        </p:nvGrpSpPr>
        <p:grpSpPr>
          <a:xfrm>
            <a:off x="3336480" y="907920"/>
            <a:ext cx="2102400" cy="1802880"/>
            <a:chOff x="3336480" y="907920"/>
            <a:chExt cx="2102400" cy="1802880"/>
          </a:xfrm>
        </p:grpSpPr>
        <p:grpSp>
          <p:nvGrpSpPr>
            <p:cNvPr id="139" name=""/>
            <p:cNvGrpSpPr/>
            <p:nvPr/>
          </p:nvGrpSpPr>
          <p:grpSpPr>
            <a:xfrm>
              <a:off x="4067640" y="1234800"/>
              <a:ext cx="1371240" cy="1476000"/>
              <a:chOff x="4067640" y="1234800"/>
              <a:chExt cx="1371240" cy="1476000"/>
            </a:xfrm>
          </p:grpSpPr>
          <p:grpSp>
            <p:nvGrpSpPr>
              <p:cNvPr id="140" name=""/>
              <p:cNvGrpSpPr/>
              <p:nvPr/>
            </p:nvGrpSpPr>
            <p:grpSpPr>
              <a:xfrm>
                <a:off x="4219200" y="1234800"/>
                <a:ext cx="1219680" cy="1211040"/>
                <a:chOff x="4219200" y="1234800"/>
                <a:chExt cx="1219680" cy="1211040"/>
              </a:xfrm>
            </p:grpSpPr>
            <p:sp>
              <p:nvSpPr>
                <p:cNvPr id="141" name=""/>
                <p:cNvSpPr/>
                <p:nvPr/>
              </p:nvSpPr>
              <p:spPr>
                <a:xfrm rot="7200000">
                  <a:off x="4389840" y="138960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2" name=""/>
                <p:cNvSpPr/>
                <p:nvPr/>
              </p:nvSpPr>
              <p:spPr>
                <a:xfrm flipH="1" rot="7200000">
                  <a:off x="4403520" y="1393200"/>
                  <a:ext cx="83952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3" name=""/>
                <p:cNvSpPr/>
                <p:nvPr/>
              </p:nvSpPr>
              <p:spPr>
                <a:xfrm flipH="1" rot="7200000">
                  <a:off x="5016960" y="195660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4" name=""/>
              <p:cNvGrpSpPr/>
              <p:nvPr/>
            </p:nvGrpSpPr>
            <p:grpSpPr>
              <a:xfrm>
                <a:off x="4067640" y="1505880"/>
                <a:ext cx="1212120" cy="1204920"/>
                <a:chOff x="4067640" y="1505880"/>
                <a:chExt cx="1212120" cy="1204920"/>
              </a:xfrm>
            </p:grpSpPr>
            <p:sp>
              <p:nvSpPr>
                <p:cNvPr id="145" name=""/>
                <p:cNvSpPr/>
                <p:nvPr/>
              </p:nvSpPr>
              <p:spPr>
                <a:xfrm rot="7200000">
                  <a:off x="4243680" y="1663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6" name=""/>
                <p:cNvSpPr/>
                <p:nvPr/>
              </p:nvSpPr>
              <p:spPr>
                <a:xfrm rot="7200000">
                  <a:off x="4895280" y="216504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"/>
                <p:cNvSpPr/>
                <p:nvPr/>
              </p:nvSpPr>
              <p:spPr>
                <a:xfrm rot="7200000">
                  <a:off x="4238280" y="165708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48" name=""/>
            <p:cNvGrpSpPr/>
            <p:nvPr/>
          </p:nvGrpSpPr>
          <p:grpSpPr>
            <a:xfrm>
              <a:off x="3336480" y="1239120"/>
              <a:ext cx="1373400" cy="1470240"/>
              <a:chOff x="3336480" y="1239120"/>
              <a:chExt cx="1373400" cy="1470240"/>
            </a:xfrm>
          </p:grpSpPr>
          <p:grpSp>
            <p:nvGrpSpPr>
              <p:cNvPr id="149" name=""/>
              <p:cNvGrpSpPr/>
              <p:nvPr/>
            </p:nvGrpSpPr>
            <p:grpSpPr>
              <a:xfrm>
                <a:off x="3490200" y="1497960"/>
                <a:ext cx="1219680" cy="1211400"/>
                <a:chOff x="3490200" y="1497960"/>
                <a:chExt cx="1219680" cy="1211400"/>
              </a:xfrm>
            </p:grpSpPr>
            <p:sp>
              <p:nvSpPr>
                <p:cNvPr id="150" name=""/>
                <p:cNvSpPr/>
                <p:nvPr/>
              </p:nvSpPr>
              <p:spPr>
                <a:xfrm rot="14400000">
                  <a:off x="3660840" y="1652760"/>
                  <a:ext cx="878040" cy="9018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1" name=""/>
                <p:cNvSpPr/>
                <p:nvPr/>
              </p:nvSpPr>
              <p:spPr>
                <a:xfrm flipH="1" rot="14400000">
                  <a:off x="3681720" y="1653840"/>
                  <a:ext cx="8398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2" name=""/>
                <p:cNvSpPr/>
                <p:nvPr/>
              </p:nvSpPr>
              <p:spPr>
                <a:xfrm flipH="1" rot="14400000">
                  <a:off x="3773160" y="2163240"/>
                  <a:ext cx="10332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3" name=""/>
              <p:cNvGrpSpPr/>
              <p:nvPr/>
            </p:nvGrpSpPr>
            <p:grpSpPr>
              <a:xfrm>
                <a:off x="3336480" y="1239120"/>
                <a:ext cx="1216800" cy="1196640"/>
                <a:chOff x="3336480" y="1239120"/>
                <a:chExt cx="1216800" cy="1196640"/>
              </a:xfrm>
            </p:grpSpPr>
            <p:sp>
              <p:nvSpPr>
                <p:cNvPr id="154" name=""/>
                <p:cNvSpPr/>
                <p:nvPr/>
              </p:nvSpPr>
              <p:spPr>
                <a:xfrm rot="14400000">
                  <a:off x="3508560" y="138888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5" name=""/>
                <p:cNvSpPr/>
                <p:nvPr/>
              </p:nvSpPr>
              <p:spPr>
                <a:xfrm rot="14400000">
                  <a:off x="3652560" y="1955160"/>
                  <a:ext cx="1065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"/>
                <p:cNvSpPr/>
                <p:nvPr/>
              </p:nvSpPr>
              <p:spPr>
                <a:xfrm rot="14400000">
                  <a:off x="3517560" y="1389960"/>
                  <a:ext cx="865080" cy="89352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57" name=""/>
            <p:cNvGrpSpPr/>
            <p:nvPr/>
          </p:nvGrpSpPr>
          <p:grpSpPr>
            <a:xfrm>
              <a:off x="3790800" y="907920"/>
              <a:ext cx="1182600" cy="904680"/>
              <a:chOff x="3790800" y="907920"/>
              <a:chExt cx="1182600" cy="904680"/>
            </a:xfrm>
          </p:grpSpPr>
          <p:grpSp>
            <p:nvGrpSpPr>
              <p:cNvPr id="158" name=""/>
              <p:cNvGrpSpPr/>
              <p:nvPr/>
            </p:nvGrpSpPr>
            <p:grpSpPr>
              <a:xfrm>
                <a:off x="3790800" y="911160"/>
                <a:ext cx="878040" cy="901440"/>
                <a:chOff x="3790800" y="911160"/>
                <a:chExt cx="878040" cy="901440"/>
              </a:xfrm>
            </p:grpSpPr>
            <p:sp>
              <p:nvSpPr>
                <p:cNvPr id="159" name=""/>
                <p:cNvSpPr/>
                <p:nvPr/>
              </p:nvSpPr>
              <p:spPr>
                <a:xfrm>
                  <a:off x="3790800" y="911160"/>
                  <a:ext cx="878040" cy="9014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0" name=""/>
                <p:cNvSpPr/>
                <p:nvPr/>
              </p:nvSpPr>
              <p:spPr>
                <a:xfrm flipH="1">
                  <a:off x="3810600" y="917280"/>
                  <a:ext cx="8398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1" name=""/>
                <p:cNvSpPr/>
                <p:nvPr/>
              </p:nvSpPr>
              <p:spPr>
                <a:xfrm flipH="1">
                  <a:off x="4211640" y="1001520"/>
                  <a:ext cx="10296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2" name=""/>
              <p:cNvGrpSpPr/>
              <p:nvPr/>
            </p:nvGrpSpPr>
            <p:grpSpPr>
              <a:xfrm>
                <a:off x="4103640" y="907920"/>
                <a:ext cx="869760" cy="903240"/>
                <a:chOff x="4103640" y="907920"/>
                <a:chExt cx="869760" cy="903240"/>
              </a:xfrm>
            </p:grpSpPr>
            <p:sp>
              <p:nvSpPr>
                <p:cNvPr id="163" name=""/>
                <p:cNvSpPr/>
                <p:nvPr/>
              </p:nvSpPr>
              <p:spPr>
                <a:xfrm>
                  <a:off x="4109760" y="907920"/>
                  <a:ext cx="863640" cy="8967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4" name=""/>
                <p:cNvSpPr/>
                <p:nvPr/>
              </p:nvSpPr>
              <p:spPr>
                <a:xfrm>
                  <a:off x="4449600" y="1001520"/>
                  <a:ext cx="106200" cy="1224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"/>
                <p:cNvSpPr/>
                <p:nvPr/>
              </p:nvSpPr>
              <p:spPr>
                <a:xfrm>
                  <a:off x="4103640" y="917280"/>
                  <a:ext cx="865080" cy="8938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166" name=""/>
          <p:cNvGrpSpPr/>
          <p:nvPr/>
        </p:nvGrpSpPr>
        <p:grpSpPr>
          <a:xfrm>
            <a:off x="1176120" y="3500280"/>
            <a:ext cx="2102040" cy="1803240"/>
            <a:chOff x="1176120" y="3500280"/>
            <a:chExt cx="2102040" cy="1803240"/>
          </a:xfrm>
        </p:grpSpPr>
        <p:sp>
          <p:nvSpPr>
            <p:cNvPr id="167" name=""/>
            <p:cNvSpPr/>
            <p:nvPr/>
          </p:nvSpPr>
          <p:spPr>
            <a:xfrm rot="7200000">
              <a:off x="2229120" y="398160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 flipH="1" rot="7200000">
              <a:off x="2243160" y="3985920"/>
              <a:ext cx="83952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 flipH="1" rot="7200000">
              <a:off x="2856600" y="4549680"/>
              <a:ext cx="10296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 rot="7200000">
              <a:off x="2083320" y="425664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 rot="7200000">
              <a:off x="2735280" y="475740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 rot="7200000">
              <a:off x="2077920" y="424980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 rot="14400000">
              <a:off x="1500840" y="424548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4" name=""/>
            <p:cNvSpPr/>
            <p:nvPr/>
          </p:nvSpPr>
          <p:spPr>
            <a:xfrm flipH="1" rot="14400000">
              <a:off x="1521360" y="4246560"/>
              <a:ext cx="8398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5" name=""/>
            <p:cNvSpPr/>
            <p:nvPr/>
          </p:nvSpPr>
          <p:spPr>
            <a:xfrm flipH="1" rot="14400000">
              <a:off x="1612080" y="4755960"/>
              <a:ext cx="10332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 rot="14400000">
              <a:off x="1348200" y="3981600"/>
              <a:ext cx="863640" cy="89676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 rot="14400000">
              <a:off x="1491840" y="4547520"/>
              <a:ext cx="106200" cy="1224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 rot="14400000">
              <a:off x="1357200" y="3982680"/>
              <a:ext cx="865080" cy="89352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630440" y="3503520"/>
              <a:ext cx="877680" cy="90180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 flipH="1">
              <a:off x="1650240" y="3510000"/>
              <a:ext cx="8398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 flipH="1">
              <a:off x="2050200" y="3594240"/>
              <a:ext cx="10332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949400" y="3500280"/>
              <a:ext cx="863640" cy="8971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2289240" y="3594240"/>
              <a:ext cx="106200" cy="12204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943280" y="3510000"/>
              <a:ext cx="865080" cy="89388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5" name=""/>
          <p:cNvGrpSpPr/>
          <p:nvPr/>
        </p:nvGrpSpPr>
        <p:grpSpPr>
          <a:xfrm>
            <a:off x="3900960" y="3573360"/>
            <a:ext cx="313920" cy="269280"/>
            <a:chOff x="3900960" y="3573360"/>
            <a:chExt cx="313920" cy="269280"/>
          </a:xfrm>
        </p:grpSpPr>
        <p:sp>
          <p:nvSpPr>
            <p:cNvPr id="186" name=""/>
            <p:cNvSpPr/>
            <p:nvPr/>
          </p:nvSpPr>
          <p:spPr>
            <a:xfrm rot="7200000">
              <a:off x="4058280" y="364536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 flipH="1" rot="7200000">
              <a:off x="4060080" y="364572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8" name=""/>
            <p:cNvSpPr/>
            <p:nvPr/>
          </p:nvSpPr>
          <p:spPr>
            <a:xfrm flipH="1" rot="7200000">
              <a:off x="4152240" y="37299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 rot="7200000">
              <a:off x="4036680" y="36864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 rot="7200000">
              <a:off x="4133880" y="376092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 rot="7200000">
              <a:off x="4035240" y="36849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 rot="14400000">
              <a:off x="3949200" y="368424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 flipH="1" rot="14400000">
              <a:off x="3952080" y="3684960"/>
              <a:ext cx="12528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 flipH="1" rot="14400000">
              <a:off x="3965760" y="376056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 rot="14400000">
              <a:off x="3926520" y="364500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 rot="14400000">
              <a:off x="3947760" y="372996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 rot="14400000">
              <a:off x="3927240" y="3645360"/>
              <a:ext cx="129240" cy="13320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3968640" y="3573720"/>
              <a:ext cx="131040" cy="134640"/>
            </a:xfrm>
            <a:custGeom>
              <a:avLst/>
              <a:gdLst/>
              <a:ahLst/>
              <a:rect l="l" t="t" r="r" b="b"/>
              <a:pathLst>
                <a:path w="1090" h="1120">
                  <a:moveTo>
                    <a:pt x="548" y="45"/>
                  </a:moveTo>
                  <a:cubicBezTo>
                    <a:pt x="474" y="22"/>
                    <a:pt x="301" y="0"/>
                    <a:pt x="219" y="39"/>
                  </a:cubicBezTo>
                  <a:cubicBezTo>
                    <a:pt x="137" y="78"/>
                    <a:pt x="76" y="176"/>
                    <a:pt x="54" y="280"/>
                  </a:cubicBezTo>
                  <a:cubicBezTo>
                    <a:pt x="32" y="384"/>
                    <a:pt x="0" y="594"/>
                    <a:pt x="86" y="663"/>
                  </a:cubicBezTo>
                  <a:cubicBezTo>
                    <a:pt x="172" y="732"/>
                    <a:pt x="463" y="672"/>
                    <a:pt x="570" y="697"/>
                  </a:cubicBezTo>
                  <a:cubicBezTo>
                    <a:pt x="677" y="722"/>
                    <a:pt x="699" y="747"/>
                    <a:pt x="732" y="812"/>
                  </a:cubicBezTo>
                  <a:cubicBezTo>
                    <a:pt x="765" y="877"/>
                    <a:pt x="723" y="1054"/>
                    <a:pt x="768" y="1087"/>
                  </a:cubicBezTo>
                  <a:cubicBezTo>
                    <a:pt x="813" y="1120"/>
                    <a:pt x="952" y="1060"/>
                    <a:pt x="1004" y="1009"/>
                  </a:cubicBezTo>
                  <a:cubicBezTo>
                    <a:pt x="1056" y="958"/>
                    <a:pt x="1072" y="845"/>
                    <a:pt x="1080" y="780"/>
                  </a:cubicBezTo>
                  <a:cubicBezTo>
                    <a:pt x="1088" y="715"/>
                    <a:pt x="1090" y="685"/>
                    <a:pt x="1053" y="621"/>
                  </a:cubicBezTo>
                  <a:cubicBezTo>
                    <a:pt x="1016" y="557"/>
                    <a:pt x="965" y="435"/>
                    <a:pt x="855" y="395"/>
                  </a:cubicBezTo>
                  <a:cubicBezTo>
                    <a:pt x="745" y="355"/>
                    <a:pt x="462" y="394"/>
                    <a:pt x="395" y="384"/>
                  </a:cubicBezTo>
                  <a:cubicBezTo>
                    <a:pt x="328" y="374"/>
                    <a:pt x="407" y="339"/>
                    <a:pt x="455" y="335"/>
                  </a:cubicBezTo>
                  <a:cubicBezTo>
                    <a:pt x="503" y="331"/>
                    <a:pt x="649" y="393"/>
                    <a:pt x="685" y="357"/>
                  </a:cubicBezTo>
                  <a:cubicBezTo>
                    <a:pt x="721" y="321"/>
                    <a:pt x="692" y="173"/>
                    <a:pt x="669" y="121"/>
                  </a:cubicBezTo>
                  <a:cubicBezTo>
                    <a:pt x="646" y="69"/>
                    <a:pt x="573" y="61"/>
                    <a:pt x="548" y="45"/>
                  </a:cubicBezTo>
                  <a:close/>
                </a:path>
              </a:pathLst>
            </a:custGeom>
            <a:solidFill>
              <a:srgbClr val="ffde52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 flipH="1">
              <a:off x="3971880" y="3574800"/>
              <a:ext cx="12528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 flipH="1">
              <a:off x="4031640" y="3587400"/>
              <a:ext cx="1512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4016520" y="3573360"/>
              <a:ext cx="128880" cy="133920"/>
            </a:xfrm>
            <a:custGeom>
              <a:avLst/>
              <a:gdLst/>
              <a:ahLst/>
              <a:rect l="l" t="t" r="r" b="b"/>
              <a:pathLst>
                <a:path w="1073" h="1114">
                  <a:moveTo>
                    <a:pt x="459" y="49"/>
                  </a:moveTo>
                  <a:cubicBezTo>
                    <a:pt x="539" y="0"/>
                    <a:pt x="746" y="15"/>
                    <a:pt x="838" y="32"/>
                  </a:cubicBezTo>
                  <a:cubicBezTo>
                    <a:pt x="930" y="49"/>
                    <a:pt x="987" y="45"/>
                    <a:pt x="1013" y="153"/>
                  </a:cubicBezTo>
                  <a:cubicBezTo>
                    <a:pt x="1039" y="261"/>
                    <a:pt x="1073" y="586"/>
                    <a:pt x="997" y="679"/>
                  </a:cubicBezTo>
                  <a:cubicBezTo>
                    <a:pt x="921" y="772"/>
                    <a:pt x="669" y="687"/>
                    <a:pt x="558" y="712"/>
                  </a:cubicBezTo>
                  <a:cubicBezTo>
                    <a:pt x="447" y="737"/>
                    <a:pt x="369" y="767"/>
                    <a:pt x="333" y="828"/>
                  </a:cubicBezTo>
                  <a:cubicBezTo>
                    <a:pt x="297" y="889"/>
                    <a:pt x="386" y="1047"/>
                    <a:pt x="339" y="1080"/>
                  </a:cubicBezTo>
                  <a:cubicBezTo>
                    <a:pt x="292" y="1113"/>
                    <a:pt x="105" y="1114"/>
                    <a:pt x="53" y="1025"/>
                  </a:cubicBezTo>
                  <a:cubicBezTo>
                    <a:pt x="1" y="936"/>
                    <a:pt x="0" y="650"/>
                    <a:pt x="26" y="548"/>
                  </a:cubicBezTo>
                  <a:cubicBezTo>
                    <a:pt x="52" y="446"/>
                    <a:pt x="98" y="436"/>
                    <a:pt x="207" y="411"/>
                  </a:cubicBezTo>
                  <a:cubicBezTo>
                    <a:pt x="316" y="386"/>
                    <a:pt x="603" y="413"/>
                    <a:pt x="679" y="400"/>
                  </a:cubicBezTo>
                  <a:cubicBezTo>
                    <a:pt x="755" y="387"/>
                    <a:pt x="716" y="346"/>
                    <a:pt x="662" y="334"/>
                  </a:cubicBezTo>
                  <a:cubicBezTo>
                    <a:pt x="608" y="322"/>
                    <a:pt x="389" y="376"/>
                    <a:pt x="355" y="328"/>
                  </a:cubicBezTo>
                  <a:cubicBezTo>
                    <a:pt x="321" y="280"/>
                    <a:pt x="383" y="93"/>
                    <a:pt x="459" y="49"/>
                  </a:cubicBezTo>
                  <a:close/>
                </a:path>
              </a:pathLst>
            </a:custGeom>
            <a:solidFill>
              <a:srgbClr val="397bad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4067280" y="3587400"/>
              <a:ext cx="15840" cy="18000"/>
            </a:xfrm>
            <a:custGeom>
              <a:avLst/>
              <a:gdLst/>
              <a:ahLst/>
              <a:rect l="l" t="t" r="r" b="b"/>
              <a:pathLst>
                <a:path w="132" h="152">
                  <a:moveTo>
                    <a:pt x="110" y="137"/>
                  </a:moveTo>
                  <a:cubicBezTo>
                    <a:pt x="128" y="122"/>
                    <a:pt x="132" y="42"/>
                    <a:pt x="121" y="22"/>
                  </a:cubicBezTo>
                  <a:cubicBezTo>
                    <a:pt x="106" y="6"/>
                    <a:pt x="61" y="0"/>
                    <a:pt x="43" y="15"/>
                  </a:cubicBezTo>
                  <a:cubicBezTo>
                    <a:pt x="25" y="30"/>
                    <a:pt x="0" y="90"/>
                    <a:pt x="11" y="110"/>
                  </a:cubicBezTo>
                  <a:cubicBezTo>
                    <a:pt x="22" y="130"/>
                    <a:pt x="92" y="152"/>
                    <a:pt x="110" y="1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4015440" y="3574800"/>
              <a:ext cx="129240" cy="133560"/>
            </a:xfrm>
            <a:custGeom>
              <a:avLst/>
              <a:gdLst/>
              <a:ahLst/>
              <a:rect l="l" t="t" r="r" b="b"/>
              <a:pathLst>
                <a:path w="1076" h="1111">
                  <a:moveTo>
                    <a:pt x="1024" y="157"/>
                  </a:moveTo>
                  <a:cubicBezTo>
                    <a:pt x="1062" y="265"/>
                    <a:pt x="1076" y="572"/>
                    <a:pt x="1002" y="662"/>
                  </a:cubicBezTo>
                  <a:cubicBezTo>
                    <a:pt x="928" y="752"/>
                    <a:pt x="680" y="679"/>
                    <a:pt x="579" y="695"/>
                  </a:cubicBezTo>
                  <a:cubicBezTo>
                    <a:pt x="478" y="711"/>
                    <a:pt x="434" y="732"/>
                    <a:pt x="393" y="760"/>
                  </a:cubicBezTo>
                  <a:cubicBezTo>
                    <a:pt x="352" y="788"/>
                    <a:pt x="342" y="813"/>
                    <a:pt x="333" y="865"/>
                  </a:cubicBezTo>
                  <a:cubicBezTo>
                    <a:pt x="324" y="917"/>
                    <a:pt x="371" y="1039"/>
                    <a:pt x="338" y="1073"/>
                  </a:cubicBezTo>
                  <a:cubicBezTo>
                    <a:pt x="305" y="1107"/>
                    <a:pt x="190" y="1111"/>
                    <a:pt x="135" y="1068"/>
                  </a:cubicBezTo>
                  <a:cubicBezTo>
                    <a:pt x="80" y="1025"/>
                    <a:pt x="13" y="920"/>
                    <a:pt x="9" y="815"/>
                  </a:cubicBezTo>
                  <a:cubicBezTo>
                    <a:pt x="5" y="710"/>
                    <a:pt x="0" y="509"/>
                    <a:pt x="108" y="437"/>
                  </a:cubicBezTo>
                  <a:cubicBezTo>
                    <a:pt x="216" y="365"/>
                    <a:pt x="566" y="398"/>
                    <a:pt x="656" y="382"/>
                  </a:cubicBezTo>
                  <a:cubicBezTo>
                    <a:pt x="746" y="366"/>
                    <a:pt x="698" y="346"/>
                    <a:pt x="651" y="338"/>
                  </a:cubicBezTo>
                  <a:cubicBezTo>
                    <a:pt x="604" y="330"/>
                    <a:pt x="404" y="377"/>
                    <a:pt x="371" y="333"/>
                  </a:cubicBezTo>
                  <a:cubicBezTo>
                    <a:pt x="338" y="289"/>
                    <a:pt x="386" y="128"/>
                    <a:pt x="453" y="75"/>
                  </a:cubicBezTo>
                  <a:cubicBezTo>
                    <a:pt x="520" y="22"/>
                    <a:pt x="676" y="0"/>
                    <a:pt x="771" y="14"/>
                  </a:cubicBezTo>
                  <a:cubicBezTo>
                    <a:pt x="866" y="28"/>
                    <a:pt x="986" y="49"/>
                    <a:pt x="1024" y="157"/>
                  </a:cubicBezTo>
                  <a:close/>
                </a:path>
              </a:pathLst>
            </a:custGeom>
            <a:noFill/>
            <a:ln w="0">
              <a:solidFill>
                <a:srgbClr val="000000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4" name=""/>
          <p:cNvGrpSpPr/>
          <p:nvPr/>
        </p:nvGrpSpPr>
        <p:grpSpPr>
          <a:xfrm>
            <a:off x="4854600" y="3716280"/>
            <a:ext cx="1049040" cy="899640"/>
            <a:chOff x="4854600" y="3716280"/>
            <a:chExt cx="1049040" cy="899640"/>
          </a:xfrm>
        </p:grpSpPr>
        <p:grpSp>
          <p:nvGrpSpPr>
            <p:cNvPr id="205" name=""/>
            <p:cNvGrpSpPr/>
            <p:nvPr/>
          </p:nvGrpSpPr>
          <p:grpSpPr>
            <a:xfrm>
              <a:off x="5219280" y="3879720"/>
              <a:ext cx="684360" cy="736200"/>
              <a:chOff x="5219280" y="3879720"/>
              <a:chExt cx="684360" cy="736200"/>
            </a:xfrm>
          </p:grpSpPr>
          <p:grpSp>
            <p:nvGrpSpPr>
              <p:cNvPr id="206" name=""/>
              <p:cNvGrpSpPr/>
              <p:nvPr/>
            </p:nvGrpSpPr>
            <p:grpSpPr>
              <a:xfrm>
                <a:off x="5294520" y="3879720"/>
                <a:ext cx="609120" cy="604800"/>
                <a:chOff x="5294520" y="3879720"/>
                <a:chExt cx="609120" cy="604800"/>
              </a:xfrm>
            </p:grpSpPr>
            <p:sp>
              <p:nvSpPr>
                <p:cNvPr id="207" name=""/>
                <p:cNvSpPr/>
                <p:nvPr/>
              </p:nvSpPr>
              <p:spPr>
                <a:xfrm rot="7200000">
                  <a:off x="5379840" y="395676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8" name=""/>
                <p:cNvSpPr/>
                <p:nvPr/>
              </p:nvSpPr>
              <p:spPr>
                <a:xfrm flipH="1" rot="7200000">
                  <a:off x="5385960" y="3958560"/>
                  <a:ext cx="4194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9" name=""/>
                <p:cNvSpPr/>
                <p:nvPr/>
              </p:nvSpPr>
              <p:spPr>
                <a:xfrm flipH="1" rot="7200000">
                  <a:off x="5692320" y="4240080"/>
                  <a:ext cx="51480" cy="6048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3680" bIns="1368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0" name=""/>
              <p:cNvGrpSpPr/>
              <p:nvPr/>
            </p:nvGrpSpPr>
            <p:grpSpPr>
              <a:xfrm>
                <a:off x="5219280" y="4015080"/>
                <a:ext cx="604440" cy="600840"/>
                <a:chOff x="5219280" y="4015080"/>
                <a:chExt cx="604440" cy="600840"/>
              </a:xfrm>
            </p:grpSpPr>
            <p:sp>
              <p:nvSpPr>
                <p:cNvPr id="211" name=""/>
                <p:cNvSpPr/>
                <p:nvPr/>
              </p:nvSpPr>
              <p:spPr>
                <a:xfrm rot="7200000">
                  <a:off x="5306400" y="409356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2" name=""/>
                <p:cNvSpPr/>
                <p:nvPr/>
              </p:nvSpPr>
              <p:spPr>
                <a:xfrm rot="7200000">
                  <a:off x="5631480" y="434340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"/>
                <p:cNvSpPr/>
                <p:nvPr/>
              </p:nvSpPr>
              <p:spPr>
                <a:xfrm rot="7200000">
                  <a:off x="5303880" y="4090680"/>
                  <a:ext cx="432000" cy="44568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14" name=""/>
            <p:cNvGrpSpPr/>
            <p:nvPr/>
          </p:nvGrpSpPr>
          <p:grpSpPr>
            <a:xfrm>
              <a:off x="4854600" y="3881520"/>
              <a:ext cx="685440" cy="734400"/>
              <a:chOff x="4854600" y="3881520"/>
              <a:chExt cx="685440" cy="734400"/>
            </a:xfrm>
          </p:grpSpPr>
          <p:grpSp>
            <p:nvGrpSpPr>
              <p:cNvPr id="215" name=""/>
              <p:cNvGrpSpPr/>
              <p:nvPr/>
            </p:nvGrpSpPr>
            <p:grpSpPr>
              <a:xfrm>
                <a:off x="4930920" y="4011120"/>
                <a:ext cx="609120" cy="604800"/>
                <a:chOff x="4930920" y="4011120"/>
                <a:chExt cx="609120" cy="604800"/>
              </a:xfrm>
            </p:grpSpPr>
            <p:sp>
              <p:nvSpPr>
                <p:cNvPr id="216" name=""/>
                <p:cNvSpPr/>
                <p:nvPr/>
              </p:nvSpPr>
              <p:spPr>
                <a:xfrm rot="14400000">
                  <a:off x="5015880" y="4088520"/>
                  <a:ext cx="438480" cy="450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7" name=""/>
                <p:cNvSpPr/>
                <p:nvPr/>
              </p:nvSpPr>
              <p:spPr>
                <a:xfrm flipH="1" rot="14400000">
                  <a:off x="5025960" y="4087800"/>
                  <a:ext cx="41940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8" name=""/>
                <p:cNvSpPr/>
                <p:nvPr/>
              </p:nvSpPr>
              <p:spPr>
                <a:xfrm flipH="1" rot="14400000">
                  <a:off x="5071320" y="4342680"/>
                  <a:ext cx="51480" cy="612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400" bIns="144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9" name=""/>
              <p:cNvGrpSpPr/>
              <p:nvPr/>
            </p:nvGrpSpPr>
            <p:grpSpPr>
              <a:xfrm>
                <a:off x="4854600" y="3881520"/>
                <a:ext cx="607320" cy="597240"/>
                <a:chOff x="4854600" y="3881520"/>
                <a:chExt cx="607320" cy="597240"/>
              </a:xfrm>
            </p:grpSpPr>
            <p:sp>
              <p:nvSpPr>
                <p:cNvPr id="220" name=""/>
                <p:cNvSpPr/>
                <p:nvPr/>
              </p:nvSpPr>
              <p:spPr>
                <a:xfrm rot="14400000">
                  <a:off x="4940280" y="3956400"/>
                  <a:ext cx="431280" cy="44748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1" name=""/>
                <p:cNvSpPr/>
                <p:nvPr/>
              </p:nvSpPr>
              <p:spPr>
                <a:xfrm rot="14400000">
                  <a:off x="5011920" y="423864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"/>
                <p:cNvSpPr/>
                <p:nvPr/>
              </p:nvSpPr>
              <p:spPr>
                <a:xfrm rot="14400000">
                  <a:off x="4944600" y="3957120"/>
                  <a:ext cx="432000" cy="4460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23" name=""/>
            <p:cNvGrpSpPr/>
            <p:nvPr/>
          </p:nvGrpSpPr>
          <p:grpSpPr>
            <a:xfrm>
              <a:off x="5081040" y="3716280"/>
              <a:ext cx="589680" cy="451800"/>
              <a:chOff x="5081040" y="3716280"/>
              <a:chExt cx="589680" cy="451800"/>
            </a:xfrm>
          </p:grpSpPr>
          <p:grpSp>
            <p:nvGrpSpPr>
              <p:cNvPr id="224" name=""/>
              <p:cNvGrpSpPr/>
              <p:nvPr/>
            </p:nvGrpSpPr>
            <p:grpSpPr>
              <a:xfrm>
                <a:off x="5081040" y="3717720"/>
                <a:ext cx="438120" cy="450360"/>
                <a:chOff x="5081040" y="3717720"/>
                <a:chExt cx="438120" cy="450360"/>
              </a:xfrm>
            </p:grpSpPr>
            <p:sp>
              <p:nvSpPr>
                <p:cNvPr id="225" name=""/>
                <p:cNvSpPr/>
                <p:nvPr/>
              </p:nvSpPr>
              <p:spPr>
                <a:xfrm>
                  <a:off x="5081040" y="3717720"/>
                  <a:ext cx="438120" cy="450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6" name=""/>
                <p:cNvSpPr/>
                <p:nvPr/>
              </p:nvSpPr>
              <p:spPr>
                <a:xfrm flipH="1">
                  <a:off x="5091120" y="3720600"/>
                  <a:ext cx="419040" cy="4467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7" name=""/>
                <p:cNvSpPr/>
                <p:nvPr/>
              </p:nvSpPr>
              <p:spPr>
                <a:xfrm flipH="1">
                  <a:off x="5290920" y="3762720"/>
                  <a:ext cx="511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8" name=""/>
              <p:cNvGrpSpPr/>
              <p:nvPr/>
            </p:nvGrpSpPr>
            <p:grpSpPr>
              <a:xfrm>
                <a:off x="5236920" y="3716280"/>
                <a:ext cx="433800" cy="450720"/>
                <a:chOff x="5236920" y="3716280"/>
                <a:chExt cx="433800" cy="450720"/>
              </a:xfrm>
            </p:grpSpPr>
            <p:sp>
              <p:nvSpPr>
                <p:cNvPr id="229" name=""/>
                <p:cNvSpPr/>
                <p:nvPr/>
              </p:nvSpPr>
              <p:spPr>
                <a:xfrm>
                  <a:off x="5239800" y="3716280"/>
                  <a:ext cx="430920" cy="44784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0" name=""/>
                <p:cNvSpPr/>
                <p:nvPr/>
              </p:nvSpPr>
              <p:spPr>
                <a:xfrm>
                  <a:off x="5409360" y="3762720"/>
                  <a:ext cx="52920" cy="608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4040" bIns="1404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"/>
                <p:cNvSpPr/>
                <p:nvPr/>
              </p:nvSpPr>
              <p:spPr>
                <a:xfrm>
                  <a:off x="5236920" y="3720600"/>
                  <a:ext cx="431640" cy="4464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  <p:grpSp>
        <p:nvGrpSpPr>
          <p:cNvPr id="232" name=""/>
          <p:cNvGrpSpPr/>
          <p:nvPr/>
        </p:nvGrpSpPr>
        <p:grpSpPr>
          <a:xfrm>
            <a:off x="6404760" y="3789360"/>
            <a:ext cx="524520" cy="449280"/>
            <a:chOff x="6404760" y="3789360"/>
            <a:chExt cx="524520" cy="449280"/>
          </a:xfrm>
        </p:grpSpPr>
        <p:grpSp>
          <p:nvGrpSpPr>
            <p:cNvPr id="233" name=""/>
            <p:cNvGrpSpPr/>
            <p:nvPr/>
          </p:nvGrpSpPr>
          <p:grpSpPr>
            <a:xfrm>
              <a:off x="6587280" y="3870360"/>
              <a:ext cx="342000" cy="368280"/>
              <a:chOff x="6587280" y="3870360"/>
              <a:chExt cx="342000" cy="368280"/>
            </a:xfrm>
          </p:grpSpPr>
          <p:grpSp>
            <p:nvGrpSpPr>
              <p:cNvPr id="234" name=""/>
              <p:cNvGrpSpPr/>
              <p:nvPr/>
            </p:nvGrpSpPr>
            <p:grpSpPr>
              <a:xfrm>
                <a:off x="6624720" y="3870360"/>
                <a:ext cx="304560" cy="302400"/>
                <a:chOff x="6624720" y="3870360"/>
                <a:chExt cx="304560" cy="302400"/>
              </a:xfrm>
            </p:grpSpPr>
            <p:sp>
              <p:nvSpPr>
                <p:cNvPr id="235" name=""/>
                <p:cNvSpPr/>
                <p:nvPr/>
              </p:nvSpPr>
              <p:spPr>
                <a:xfrm rot="7200000">
                  <a:off x="6667200" y="3908520"/>
                  <a:ext cx="218880" cy="22536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6" name=""/>
                <p:cNvSpPr/>
                <p:nvPr/>
              </p:nvSpPr>
              <p:spPr>
                <a:xfrm flipH="1" rot="7200000">
                  <a:off x="6670080" y="3909600"/>
                  <a:ext cx="209520" cy="22356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"/>
                <p:cNvSpPr/>
                <p:nvPr/>
              </p:nvSpPr>
              <p:spPr>
                <a:xfrm flipH="1" rot="7200000">
                  <a:off x="6823800" y="4049640"/>
                  <a:ext cx="25200" cy="3060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200" bIns="-162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"/>
              <p:cNvGrpSpPr/>
              <p:nvPr/>
            </p:nvGrpSpPr>
            <p:grpSpPr>
              <a:xfrm>
                <a:off x="6587280" y="3938040"/>
                <a:ext cx="302400" cy="300600"/>
                <a:chOff x="6587280" y="3938040"/>
                <a:chExt cx="302400" cy="300600"/>
              </a:xfrm>
            </p:grpSpPr>
            <p:sp>
              <p:nvSpPr>
                <p:cNvPr id="239" name=""/>
                <p:cNvSpPr/>
                <p:nvPr/>
              </p:nvSpPr>
              <p:spPr>
                <a:xfrm rot="7200000">
                  <a:off x="6631200" y="397728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"/>
                <p:cNvSpPr/>
                <p:nvPr/>
              </p:nvSpPr>
              <p:spPr>
                <a:xfrm rot="7200000">
                  <a:off x="6793200" y="41022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1" name=""/>
                <p:cNvSpPr/>
                <p:nvPr/>
              </p:nvSpPr>
              <p:spPr>
                <a:xfrm rot="7200000">
                  <a:off x="6629760" y="39754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42" name=""/>
            <p:cNvGrpSpPr/>
            <p:nvPr/>
          </p:nvGrpSpPr>
          <p:grpSpPr>
            <a:xfrm>
              <a:off x="6404760" y="3871440"/>
              <a:ext cx="342360" cy="366840"/>
              <a:chOff x="6404760" y="3871440"/>
              <a:chExt cx="342360" cy="366840"/>
            </a:xfrm>
          </p:grpSpPr>
          <p:grpSp>
            <p:nvGrpSpPr>
              <p:cNvPr id="243" name=""/>
              <p:cNvGrpSpPr/>
              <p:nvPr/>
            </p:nvGrpSpPr>
            <p:grpSpPr>
              <a:xfrm>
                <a:off x="6442920" y="3936240"/>
                <a:ext cx="304200" cy="302040"/>
                <a:chOff x="6442920" y="3936240"/>
                <a:chExt cx="304200" cy="302040"/>
              </a:xfrm>
            </p:grpSpPr>
            <p:sp>
              <p:nvSpPr>
                <p:cNvPr id="244" name=""/>
                <p:cNvSpPr/>
                <p:nvPr/>
              </p:nvSpPr>
              <p:spPr>
                <a:xfrm rot="14400000">
                  <a:off x="6485400" y="3974400"/>
                  <a:ext cx="218880" cy="22500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5" name=""/>
                <p:cNvSpPr/>
                <p:nvPr/>
              </p:nvSpPr>
              <p:spPr>
                <a:xfrm flipH="1" rot="14400000">
                  <a:off x="6490800" y="3974760"/>
                  <a:ext cx="20952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"/>
                <p:cNvSpPr/>
                <p:nvPr/>
              </p:nvSpPr>
              <p:spPr>
                <a:xfrm flipH="1" rot="14400000">
                  <a:off x="6513480" y="4102200"/>
                  <a:ext cx="2520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"/>
              <p:cNvGrpSpPr/>
              <p:nvPr/>
            </p:nvGrpSpPr>
            <p:grpSpPr>
              <a:xfrm>
                <a:off x="6404760" y="3871440"/>
                <a:ext cx="303480" cy="298440"/>
                <a:chOff x="6404760" y="3871440"/>
                <a:chExt cx="303480" cy="298440"/>
              </a:xfrm>
            </p:grpSpPr>
            <p:sp>
              <p:nvSpPr>
                <p:cNvPr id="248" name=""/>
                <p:cNvSpPr/>
                <p:nvPr/>
              </p:nvSpPr>
              <p:spPr>
                <a:xfrm rot="14400000">
                  <a:off x="6447600" y="3908520"/>
                  <a:ext cx="215280" cy="22392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"/>
                <p:cNvSpPr/>
                <p:nvPr/>
              </p:nvSpPr>
              <p:spPr>
                <a:xfrm rot="14400000">
                  <a:off x="6483240" y="40500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0" name=""/>
                <p:cNvSpPr/>
                <p:nvPr/>
              </p:nvSpPr>
              <p:spPr>
                <a:xfrm rot="14400000">
                  <a:off x="6449760" y="3908880"/>
                  <a:ext cx="215640" cy="22320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251" name=""/>
            <p:cNvGrpSpPr/>
            <p:nvPr/>
          </p:nvGrpSpPr>
          <p:grpSpPr>
            <a:xfrm>
              <a:off x="6517800" y="3789360"/>
              <a:ext cx="295200" cy="225360"/>
              <a:chOff x="6517800" y="3789360"/>
              <a:chExt cx="295200" cy="225360"/>
            </a:xfrm>
          </p:grpSpPr>
          <p:grpSp>
            <p:nvGrpSpPr>
              <p:cNvPr id="252" name=""/>
              <p:cNvGrpSpPr/>
              <p:nvPr/>
            </p:nvGrpSpPr>
            <p:grpSpPr>
              <a:xfrm>
                <a:off x="6517800" y="3790080"/>
                <a:ext cx="219240" cy="224640"/>
                <a:chOff x="6517800" y="3790080"/>
                <a:chExt cx="219240" cy="224640"/>
              </a:xfrm>
            </p:grpSpPr>
            <p:sp>
              <p:nvSpPr>
                <p:cNvPr id="253" name=""/>
                <p:cNvSpPr/>
                <p:nvPr/>
              </p:nvSpPr>
              <p:spPr>
                <a:xfrm>
                  <a:off x="6517800" y="3790080"/>
                  <a:ext cx="219240" cy="224640"/>
                </a:xfrm>
                <a:custGeom>
                  <a:avLst/>
                  <a:gdLst/>
                  <a:ahLst/>
                  <a:rect l="l" t="t" r="r" b="b"/>
                  <a:pathLst>
                    <a:path w="1090" h="1120">
                      <a:moveTo>
                        <a:pt x="548" y="45"/>
                      </a:moveTo>
                      <a:cubicBezTo>
                        <a:pt x="474" y="22"/>
                        <a:pt x="301" y="0"/>
                        <a:pt x="219" y="39"/>
                      </a:cubicBezTo>
                      <a:cubicBezTo>
                        <a:pt x="137" y="78"/>
                        <a:pt x="76" y="176"/>
                        <a:pt x="54" y="280"/>
                      </a:cubicBezTo>
                      <a:cubicBezTo>
                        <a:pt x="32" y="384"/>
                        <a:pt x="0" y="594"/>
                        <a:pt x="86" y="663"/>
                      </a:cubicBezTo>
                      <a:cubicBezTo>
                        <a:pt x="172" y="732"/>
                        <a:pt x="463" y="672"/>
                        <a:pt x="570" y="697"/>
                      </a:cubicBezTo>
                      <a:cubicBezTo>
                        <a:pt x="677" y="722"/>
                        <a:pt x="699" y="747"/>
                        <a:pt x="732" y="812"/>
                      </a:cubicBezTo>
                      <a:cubicBezTo>
                        <a:pt x="765" y="877"/>
                        <a:pt x="723" y="1054"/>
                        <a:pt x="768" y="1087"/>
                      </a:cubicBezTo>
                      <a:cubicBezTo>
                        <a:pt x="813" y="1120"/>
                        <a:pt x="952" y="1060"/>
                        <a:pt x="1004" y="1009"/>
                      </a:cubicBezTo>
                      <a:cubicBezTo>
                        <a:pt x="1056" y="958"/>
                        <a:pt x="1072" y="845"/>
                        <a:pt x="1080" y="780"/>
                      </a:cubicBezTo>
                      <a:cubicBezTo>
                        <a:pt x="1088" y="715"/>
                        <a:pt x="1090" y="685"/>
                        <a:pt x="1053" y="621"/>
                      </a:cubicBezTo>
                      <a:cubicBezTo>
                        <a:pt x="1016" y="557"/>
                        <a:pt x="965" y="435"/>
                        <a:pt x="855" y="395"/>
                      </a:cubicBezTo>
                      <a:cubicBezTo>
                        <a:pt x="745" y="355"/>
                        <a:pt x="462" y="394"/>
                        <a:pt x="395" y="384"/>
                      </a:cubicBezTo>
                      <a:cubicBezTo>
                        <a:pt x="328" y="374"/>
                        <a:pt x="407" y="339"/>
                        <a:pt x="455" y="335"/>
                      </a:cubicBezTo>
                      <a:cubicBezTo>
                        <a:pt x="503" y="331"/>
                        <a:pt x="649" y="393"/>
                        <a:pt x="685" y="357"/>
                      </a:cubicBezTo>
                      <a:cubicBezTo>
                        <a:pt x="721" y="321"/>
                        <a:pt x="692" y="173"/>
                        <a:pt x="669" y="121"/>
                      </a:cubicBezTo>
                      <a:cubicBezTo>
                        <a:pt x="646" y="69"/>
                        <a:pt x="573" y="61"/>
                        <a:pt x="548" y="45"/>
                      </a:cubicBezTo>
                      <a:close/>
                    </a:path>
                  </a:pathLst>
                </a:custGeom>
                <a:solidFill>
                  <a:srgbClr val="ffde52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4" name=""/>
                <p:cNvSpPr/>
                <p:nvPr/>
              </p:nvSpPr>
              <p:spPr>
                <a:xfrm flipH="1">
                  <a:off x="6522120" y="3791520"/>
                  <a:ext cx="20988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"/>
                <p:cNvSpPr/>
                <p:nvPr/>
              </p:nvSpPr>
              <p:spPr>
                <a:xfrm flipH="1">
                  <a:off x="6622200" y="3812400"/>
                  <a:ext cx="2556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"/>
              <p:cNvGrpSpPr/>
              <p:nvPr/>
            </p:nvGrpSpPr>
            <p:grpSpPr>
              <a:xfrm>
                <a:off x="6595920" y="3789360"/>
                <a:ext cx="217080" cy="225000"/>
                <a:chOff x="6595920" y="3789360"/>
                <a:chExt cx="217080" cy="225000"/>
              </a:xfrm>
            </p:grpSpPr>
            <p:sp>
              <p:nvSpPr>
                <p:cNvPr id="257" name=""/>
                <p:cNvSpPr/>
                <p:nvPr/>
              </p:nvSpPr>
              <p:spPr>
                <a:xfrm>
                  <a:off x="6597360" y="3789360"/>
                  <a:ext cx="215640" cy="223560"/>
                </a:xfrm>
                <a:custGeom>
                  <a:avLst/>
                  <a:gdLst/>
                  <a:ahLst/>
                  <a:rect l="l" t="t" r="r" b="b"/>
                  <a:pathLst>
                    <a:path w="1073" h="1114">
                      <a:moveTo>
                        <a:pt x="459" y="49"/>
                      </a:moveTo>
                      <a:cubicBezTo>
                        <a:pt x="539" y="0"/>
                        <a:pt x="746" y="15"/>
                        <a:pt x="838" y="32"/>
                      </a:cubicBezTo>
                      <a:cubicBezTo>
                        <a:pt x="930" y="49"/>
                        <a:pt x="987" y="45"/>
                        <a:pt x="1013" y="153"/>
                      </a:cubicBezTo>
                      <a:cubicBezTo>
                        <a:pt x="1039" y="261"/>
                        <a:pt x="1073" y="586"/>
                        <a:pt x="997" y="679"/>
                      </a:cubicBezTo>
                      <a:cubicBezTo>
                        <a:pt x="921" y="772"/>
                        <a:pt x="669" y="687"/>
                        <a:pt x="558" y="712"/>
                      </a:cubicBezTo>
                      <a:cubicBezTo>
                        <a:pt x="447" y="737"/>
                        <a:pt x="369" y="767"/>
                        <a:pt x="333" y="828"/>
                      </a:cubicBezTo>
                      <a:cubicBezTo>
                        <a:pt x="297" y="889"/>
                        <a:pt x="386" y="1047"/>
                        <a:pt x="339" y="1080"/>
                      </a:cubicBezTo>
                      <a:cubicBezTo>
                        <a:pt x="292" y="1113"/>
                        <a:pt x="105" y="1114"/>
                        <a:pt x="53" y="1025"/>
                      </a:cubicBezTo>
                      <a:cubicBezTo>
                        <a:pt x="1" y="936"/>
                        <a:pt x="0" y="650"/>
                        <a:pt x="26" y="548"/>
                      </a:cubicBezTo>
                      <a:cubicBezTo>
                        <a:pt x="52" y="446"/>
                        <a:pt x="98" y="436"/>
                        <a:pt x="207" y="411"/>
                      </a:cubicBezTo>
                      <a:cubicBezTo>
                        <a:pt x="316" y="386"/>
                        <a:pt x="603" y="413"/>
                        <a:pt x="679" y="400"/>
                      </a:cubicBezTo>
                      <a:cubicBezTo>
                        <a:pt x="755" y="387"/>
                        <a:pt x="716" y="346"/>
                        <a:pt x="662" y="334"/>
                      </a:cubicBezTo>
                      <a:cubicBezTo>
                        <a:pt x="608" y="322"/>
                        <a:pt x="389" y="376"/>
                        <a:pt x="355" y="328"/>
                      </a:cubicBezTo>
                      <a:cubicBezTo>
                        <a:pt x="321" y="280"/>
                        <a:pt x="383" y="93"/>
                        <a:pt x="459" y="49"/>
                      </a:cubicBezTo>
                      <a:close/>
                    </a:path>
                  </a:pathLst>
                </a:custGeom>
                <a:solidFill>
                  <a:srgbClr val="397bad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"/>
                <p:cNvSpPr/>
                <p:nvPr/>
              </p:nvSpPr>
              <p:spPr>
                <a:xfrm>
                  <a:off x="6682320" y="3812400"/>
                  <a:ext cx="26280" cy="30240"/>
                </a:xfrm>
                <a:custGeom>
                  <a:avLst/>
                  <a:gdLst/>
                  <a:ahLst/>
                  <a:rect l="l" t="t" r="r" b="b"/>
                  <a:pathLst>
                    <a:path w="132" h="152">
                      <a:moveTo>
                        <a:pt x="110" y="137"/>
                      </a:moveTo>
                      <a:cubicBezTo>
                        <a:pt x="128" y="122"/>
                        <a:pt x="132" y="42"/>
                        <a:pt x="121" y="22"/>
                      </a:cubicBezTo>
                      <a:cubicBezTo>
                        <a:pt x="106" y="6"/>
                        <a:pt x="61" y="0"/>
                        <a:pt x="43" y="15"/>
                      </a:cubicBezTo>
                      <a:cubicBezTo>
                        <a:pt x="25" y="30"/>
                        <a:pt x="0" y="90"/>
                        <a:pt x="11" y="110"/>
                      </a:cubicBezTo>
                      <a:cubicBezTo>
                        <a:pt x="22" y="130"/>
                        <a:pt x="92" y="152"/>
                        <a:pt x="110" y="137"/>
                      </a:cubicBezTo>
                      <a:close/>
                    </a:path>
                  </a:pathLst>
                </a:custGeom>
                <a:solidFill>
                  <a:srgbClr val="ffffff"/>
                </a:solidFill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-16560" bIns="-1656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9" name=""/>
                <p:cNvSpPr/>
                <p:nvPr/>
              </p:nvSpPr>
              <p:spPr>
                <a:xfrm>
                  <a:off x="6595920" y="3791520"/>
                  <a:ext cx="216000" cy="222840"/>
                </a:xfrm>
                <a:custGeom>
                  <a:avLst/>
                  <a:gdLst/>
                  <a:ahLst/>
                  <a:rect l="l" t="t" r="r" b="b"/>
                  <a:pathLst>
                    <a:path w="1076" h="1111">
                      <a:moveTo>
                        <a:pt x="1024" y="157"/>
                      </a:moveTo>
                      <a:cubicBezTo>
                        <a:pt x="1062" y="265"/>
                        <a:pt x="1076" y="572"/>
                        <a:pt x="1002" y="662"/>
                      </a:cubicBezTo>
                      <a:cubicBezTo>
                        <a:pt x="928" y="752"/>
                        <a:pt x="680" y="679"/>
                        <a:pt x="579" y="695"/>
                      </a:cubicBezTo>
                      <a:cubicBezTo>
                        <a:pt x="478" y="711"/>
                        <a:pt x="434" y="732"/>
                        <a:pt x="393" y="760"/>
                      </a:cubicBezTo>
                      <a:cubicBezTo>
                        <a:pt x="352" y="788"/>
                        <a:pt x="342" y="813"/>
                        <a:pt x="333" y="865"/>
                      </a:cubicBezTo>
                      <a:cubicBezTo>
                        <a:pt x="324" y="917"/>
                        <a:pt x="371" y="1039"/>
                        <a:pt x="338" y="1073"/>
                      </a:cubicBezTo>
                      <a:cubicBezTo>
                        <a:pt x="305" y="1107"/>
                        <a:pt x="190" y="1111"/>
                        <a:pt x="135" y="1068"/>
                      </a:cubicBezTo>
                      <a:cubicBezTo>
                        <a:pt x="80" y="1025"/>
                        <a:pt x="13" y="920"/>
                        <a:pt x="9" y="815"/>
                      </a:cubicBezTo>
                      <a:cubicBezTo>
                        <a:pt x="5" y="710"/>
                        <a:pt x="0" y="509"/>
                        <a:pt x="108" y="437"/>
                      </a:cubicBezTo>
                      <a:cubicBezTo>
                        <a:pt x="216" y="365"/>
                        <a:pt x="566" y="398"/>
                        <a:pt x="656" y="382"/>
                      </a:cubicBezTo>
                      <a:cubicBezTo>
                        <a:pt x="746" y="366"/>
                        <a:pt x="698" y="346"/>
                        <a:pt x="651" y="338"/>
                      </a:cubicBezTo>
                      <a:cubicBezTo>
                        <a:pt x="604" y="330"/>
                        <a:pt x="404" y="377"/>
                        <a:pt x="371" y="333"/>
                      </a:cubicBezTo>
                      <a:cubicBezTo>
                        <a:pt x="338" y="289"/>
                        <a:pt x="386" y="128"/>
                        <a:pt x="453" y="75"/>
                      </a:cubicBezTo>
                      <a:cubicBezTo>
                        <a:pt x="520" y="22"/>
                        <a:pt x="676" y="0"/>
                        <a:pt x="771" y="14"/>
                      </a:cubicBezTo>
                      <a:cubicBezTo>
                        <a:pt x="866" y="28"/>
                        <a:pt x="986" y="49"/>
                        <a:pt x="1024" y="157"/>
                      </a:cubicBezTo>
                      <a:close/>
                    </a:path>
                  </a:pathLst>
                </a:custGeom>
                <a:noFill/>
                <a:ln w="0">
                  <a:solidFill>
                    <a:srgbClr val="00000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31T20:16:01Z</dcterms:created>
  <dc:creator>sebulba</dc:creator>
  <dc:description/>
  <dc:language>en-US</dc:language>
  <cp:lastModifiedBy>sebulba</cp:lastModifiedBy>
  <dcterms:modified xsi:type="dcterms:W3CDTF">2008-10-31T22:00:10Z</dcterms:modified>
  <cp:revision>6</cp:revision>
  <dc:subject/>
  <dc:title>Slide 1</dc:title>
</cp:coreProperties>
</file>