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20373"/>
        <c:axId val="96099431"/>
      </c:barChart>
      <c:catAx>
        <c:axId val="4592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99431"/>
        <c:crosses val="autoZero"/>
        <c:auto val="1"/>
        <c:lblAlgn val="ctr"/>
        <c:lblOffset val="100"/>
        <c:noMultiLvlLbl val="0"/>
      </c:catAx>
      <c:valAx>
        <c:axId val="96099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2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405-D495-453B-A1B0-51AABE29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935-2F0F-4148-9C8C-0BED38BA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E75-EBE1-411B-B7DC-959B3FD5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791-4E00-4EEF-BE37-B7B15F17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6B5-8A80-4ABC-9358-C6B3A37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230-D1D7-4956-BD44-47324AD0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D9D-9829-4C38-A876-D6C5EC7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E5E-061F-48B3-B917-86D0484A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F0B-5BE3-40EE-A83A-B3899833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E96-43FB-44A6-8651-218AC82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D44-68CE-40B7-AB00-FABE3200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E52-9014-4DD4-A40E-46703D2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7A559-BB68-41F2-B9B0-3CFF698B01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