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04505"/>
        <c:axId val="43156455"/>
      </c:barChart>
      <c:catAx>
        <c:axId val="39904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56455"/>
        <c:crosses val="autoZero"/>
        <c:auto val="1"/>
        <c:lblAlgn val="ctr"/>
        <c:lblOffset val="100"/>
        <c:noMultiLvlLbl val="0"/>
      </c:catAx>
      <c:valAx>
        <c:axId val="43156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4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494-145B-42B8-A426-D5709F1C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3CA-B45B-4E2E-8D53-3BBC7D9D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20D-F343-46D7-AF71-5CD318AA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9C8-3E6C-4143-8070-619DA783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473-97FC-4089-B8D6-45A8F0D6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D60-4D43-4B41-971B-4329F1C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6BB-E336-42A0-91BB-287E52A0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665-52AF-406D-9095-4DA010B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135-B43F-41F0-B27E-AD43158C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348-CABA-4ACF-8C9F-F83DEDF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600-1D31-4C3A-AC53-965663F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D41-2152-442A-A27D-1DD8A0E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FCF6-0180-415D-90E3-41864F70B9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