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05139"/>
        <c:axId val="58265571"/>
      </c:barChart>
      <c:catAx>
        <c:axId val="71705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65571"/>
        <c:crosses val="autoZero"/>
        <c:auto val="1"/>
        <c:lblAlgn val="ctr"/>
        <c:lblOffset val="100"/>
        <c:noMultiLvlLbl val="0"/>
      </c:catAx>
      <c:valAx>
        <c:axId val="58265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5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6EA-7DF5-43C2-A3FE-BDDE5807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E1E-AA2F-4896-80FA-CF0AE69E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961-9DE7-4555-B85D-EBC5E44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B3B-A0A9-4D62-956C-9B615739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02A-7BC4-41E6-BF77-680DCDF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880-71CC-4773-B7CE-E2FA775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B70-A21A-41EE-8178-75AD528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1E2-607A-4089-B7D2-BC1A8DC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6EB-EF38-4DF8-82A8-B00D3A48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3E2-3698-473B-AE37-94F5EB4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F3-0ED5-47D3-A355-EE4887D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434-951F-49C9-AC51-3D5479D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C7CA-8BE1-40D0-A3AC-9CA747DBA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