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937260"/>
        <c:axId val="93987700"/>
      </c:barChart>
      <c:catAx>
        <c:axId val="469372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987700"/>
        <c:crosses val="autoZero"/>
        <c:auto val="1"/>
        <c:lblAlgn val="ctr"/>
        <c:lblOffset val="100"/>
        <c:noMultiLvlLbl val="0"/>
      </c:catAx>
      <c:valAx>
        <c:axId val="939877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9372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D612-E673-4829-9B55-DB33F3B00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7E8B-E55F-4FF9-9348-D06FC56BC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84B2-BE96-4840-9F93-2E37CCFE5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0F4B-EBB2-413B-8BD9-F8EA645B1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5471-88B3-4BFF-B52F-C87C17F82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2C97-195C-42A7-9277-0AC164B5D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3975-DA0E-4AF7-859F-D7C73C509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3E6C-B72E-4309-BF48-2A5312BD3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C0DC-642A-4B80-837A-13A2EE58A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7788-E313-48EE-8C72-97A623CE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3AEE-9A08-4562-B73C-BC1DD909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15BC-47DB-4A2A-8400-0DC67BBE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AB4627-A7A0-4548-8CCB-B73924C59E7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