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503856"/>
        <c:axId val="14803126"/>
      </c:barChart>
      <c:catAx>
        <c:axId val="395038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803126"/>
        <c:crosses val="autoZero"/>
        <c:auto val="1"/>
        <c:lblAlgn val="ctr"/>
        <c:lblOffset val="100"/>
        <c:noMultiLvlLbl val="0"/>
      </c:catAx>
      <c:valAx>
        <c:axId val="148031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5038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6706-7F4E-4B9F-AC80-EFCA5D555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9484-5CA6-45BD-AF8C-C40082B9C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82A2-7DFA-40C0-AC6A-83F39BDD3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927C-B9F9-46FB-9AA5-231EF5498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DF16-E1C2-4760-91BA-C62A629BA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D94F-548A-41F5-983C-B27F23C24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97AE-2F40-4E03-9EE0-5E39B3F9C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A02A-3C9E-439F-BE94-079406105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16CD-EE5C-4EAD-A97C-6B91D8FEE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0BA3-524C-4C92-B270-F99467E9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C159-BB91-4A51-A500-81C85D83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5D11-4727-46AB-B6D0-F1FD99FE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699B78-9D0D-47F8-ABF9-ED381F78580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