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79400"/>
        <c:axId val="60144051"/>
      </c:barChart>
      <c:catAx>
        <c:axId val="77779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44051"/>
        <c:crosses val="autoZero"/>
        <c:auto val="1"/>
        <c:lblAlgn val="ctr"/>
        <c:lblOffset val="100"/>
        <c:noMultiLvlLbl val="0"/>
      </c:catAx>
      <c:valAx>
        <c:axId val="60144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79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148-28A9-4450-83D6-466B0BF4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EE0-7A5A-4E66-977E-8B2CE13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89E-9A70-4681-BF16-C6AC315F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8A8-1EFE-4F42-8AA8-16E0CDD4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EDC-BF3B-4536-8133-082B4FE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843-7EA2-4449-B15F-DA470561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E4E-1CA3-4C79-8E3D-B3E37649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B6F-B5DA-478D-B2B1-30786CA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95D-824E-429C-BEE3-F2FCBB2A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B16-9D8D-4F00-A8F1-74B83CB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188-0501-4510-A309-DAB6277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B1C-7297-428A-B2A8-D50005D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2A8D9-D42A-41C3-B5FF-82A803F36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