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embeddings/oleObject1.xlsx" ContentType="application/vnd.openxmlformats-officedocument.spreadsheetml.sheet"/>
  <Override PartName="/ppt/embeddings/oleObject2.docx" ContentType="application/vnd.openxmlformats-officedocument.wordprocessingml.document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47F1-9D87-43BD-8C7B-216AA7C6DE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AF7C-03B9-4857-8292-93484E38FC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8EC5-973D-4659-B7D8-7DE0DAF362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4AAA-3324-4D7E-91C7-6061E54718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B031C-06B3-4935-93CE-8E3BBFDDD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BF64-A7FB-4058-9522-1BF0E43CC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BDC9F-2087-47A2-81A7-FEEA78EE5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AB324-AC6E-4C05-94DF-C04184025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698D9-8133-4C32-9ACC-C737722751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FD1D-24FE-4705-95E2-BD4D79F2B3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8ABC6-2A3B-48BA-983E-56F31B42A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42A60-311B-4A4E-9485-E0CF9CB90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6C951-76C2-4B23-A455-204642E6F7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package" Target="../embeddings/oleObject1.xlsx"/><Relationship Id="rId5" Type="http://schemas.openxmlformats.org/officeDocument/2006/relationships/image" Target="../media/image4.wmf"/><Relationship Id="rId6" Type="http://schemas.openxmlformats.org/officeDocument/2006/relationships/package" Target="../embeddings/oleObject2.docx"/><Relationship Id="rId7" Type="http://schemas.openxmlformats.org/officeDocument/2006/relationships/image" Target="../media/image5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quick brown fox jumps over the lazy do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alfresco-logo.png"/>
          <p:cNvPicPr/>
          <p:nvPr/>
        </p:nvPicPr>
        <p:blipFill>
          <a:blip r:embed="rId1"/>
          <a:stretch/>
        </p:blipFill>
        <p:spPr>
          <a:xfrm>
            <a:off x="3672000" y="3166920"/>
            <a:ext cx="1800000" cy="5241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5" descr="testGIF.gif"/>
          <p:cNvPicPr/>
          <p:nvPr/>
        </p:nvPicPr>
        <p:blipFill>
          <a:blip r:embed="rId2"/>
          <a:stretch/>
        </p:blipFill>
        <p:spPr>
          <a:xfrm>
            <a:off x="4191120" y="1295280"/>
            <a:ext cx="952560" cy="714600"/>
          </a:xfrm>
          <a:prstGeom prst="rect">
            <a:avLst/>
          </a:prstGeom>
          <a:ln w="0">
            <a:noFill/>
          </a:ln>
        </p:spPr>
      </p:pic>
      <p:pic>
        <p:nvPicPr>
          <p:cNvPr id="44" name="empty.mp3" descr=""/>
          <p:cNvPicPr/>
          <p:nvPr/>
        </p:nvPicPr>
        <p:blipFill>
          <a:blip r:embed="rId3"/>
          <a:stretch/>
        </p:blipFill>
        <p:spPr>
          <a:xfrm>
            <a:off x="4267080" y="4343400"/>
            <a:ext cx="304920" cy="304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" name="Object 6"/>
          <p:cNvGraphicFramePr/>
          <p:nvPr/>
        </p:nvGraphicFramePr>
        <p:xfrm>
          <a:off x="304920" y="5105520"/>
          <a:ext cx="3352680" cy="148752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46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5105520"/>
                    <a:ext cx="3352680" cy="148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" name="Object 7"/>
          <p:cNvGraphicFramePr/>
          <p:nvPr/>
        </p:nvGraphicFramePr>
        <p:xfrm>
          <a:off x="5334120" y="4952880"/>
          <a:ext cx="3351240" cy="1640160"/>
        </p:xfrm>
        <a:graphic>
          <a:graphicData uri="http://schemas.openxmlformats.org/presentationml/2006/ole">
            <p:oleObj progId="Word.Document.12" r:id="rId6" spid="">
              <p:embed/>
              <p:pic>
                <p:nvPicPr>
                  <p:cNvPr id="48" name="Object 7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5334120" y="4952880"/>
                    <a:ext cx="3351240" cy="1640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44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44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000" fill="hold"/>
                                        <p:tgtEl>
                                          <p:spTgt spid="4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Nevin Nollop</dc:creator>
  <dc:description/>
  <dc:language>en-US</dc:language>
  <cp:lastModifiedBy>Nick Burch</cp:lastModifiedBy>
  <dcterms:modified xsi:type="dcterms:W3CDTF">2010-09-08T16:13:52Z</dcterms:modified>
  <cp:revision>5</cp:revision>
  <dc:subject>Gym class featuring a brown fox and lazy dog</dc:subject>
  <dc:title>The quick brown fox jumps over the lazy dog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