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C616D-639C-458F-BF54-3ABB623FE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08D17-6583-4D94-9ED8-43B8425B1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89549-9D1D-427F-8960-99F1388E9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267-DE91-45CF-97B5-1487CBC6C0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E4DF0E-43A4-46E5-A1FA-2BD9702F9E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115671-5C0E-4839-A737-EEF2D184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6C4FE-A24D-439C-B219-70F7A8F90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612E-9462-4596-8952-8B9B652B8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8991B-685B-4FFA-8946-DDF44DCE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4B8668-AED8-4316-9353-E72D2FC5E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E1FD3-3525-4B78-B4A9-1D140040F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BA5E7-EBBA-450C-8D4B-E66760251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CF9459-EED9-4909-89C6-C75914416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E262F5-4A84-4182-9EEE-5D460C8EF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E11CE-0E0A-47C8-96AC-705C89099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56B41D-EDEC-449B-9C7B-47EF3EB1A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41E72-B68C-48B5-9413-C7E3FE7CD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80579-51CB-42BA-9923-2DB218497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D358B-6FE4-4F19-A6BB-BBEA06051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B4BFC-B3DB-47F7-AB2B-7A430B99C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82AEE-FCE6-4B58-A894-D4D880DD6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5292A-B73E-48C7-807A-5D6003754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CFB58-A1BA-44ED-8781-14C913B74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13E0-D0C1-49BE-8FA0-E6019C13A7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8419-3064-4566-B163-BD656BCB412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2975400" y="1066680"/>
            <a:ext cx="355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xt that I added to the master slid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6FDAE-0CC3-4EBB-A39C-D4B62B7D531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24T18:40:18Z</dcterms:created>
  <dc:creator>Michael McCandless</dc:creator>
  <dc:description/>
  <dc:language>en-US</dc:language>
  <cp:lastModifiedBy>Michael McCandless</cp:lastModifiedBy>
  <dcterms:modified xsi:type="dcterms:W3CDTF">2011-09-24T18:54:42Z</dcterms:modified>
  <cp:revision>1</cp:revision>
  <dc:subject/>
  <dc:title>Slide 1</dc:title>
</cp:coreProperties>
</file>