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F3785-B482-45A3-9B52-515AAC0610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B1D45-8634-4BE4-A7B8-26F1022E9F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C5894-43D5-4545-A6C9-28E50B1E7A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31C43-8286-4258-BEB4-7C102FB42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262D-F7EB-4A7B-82E4-DCCB088C5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50F55-F9DC-4241-A646-9668C7E04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27176-41A1-4F0C-BA9A-B9EC82F28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6CCF7-307D-48E4-B4C1-6BABDB82A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7C44D-9E7F-417E-AA6E-5358F1EB56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61DB7-09CF-4AB5-8A9F-045FA0B08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844E-E405-4D55-AF18-16014B232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E8D21-5EF4-45B1-9A72-9F9D7D417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3A998-68CF-4DC8-8E9E-59C8D998008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TextBox 6"/>
          <p:cNvSpPr/>
          <p:nvPr/>
        </p:nvSpPr>
        <p:spPr>
          <a:xfrm>
            <a:off x="3356640" y="167652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9:00:29Z</dcterms:created>
  <dc:creator>Michael McCandless</dc:creator>
  <dc:description/>
  <dc:language>en-US</dc:language>
  <cp:lastModifiedBy>Michael McCandless</cp:lastModifiedBy>
  <dcterms:modified xsi:type="dcterms:W3CDTF">2011-09-24T19:02:08Z</dcterms:modified>
  <cp:revision>1</cp:revision>
  <dc:subject/>
  <dc:title>Slide 1</dc:title>
</cp:coreProperties>
</file>