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D4B2-229C-4F8E-827D-DCA87FC14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14247-24CA-49EB-97BC-BC52E08EB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61481-6B9A-41DD-A9F5-0C7DE2844E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1E2C-A803-4E5A-9D79-18ACE8CA6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7AA189-FF7E-4423-B42B-74BE7611F8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AAA4E-5F96-4763-9DE1-E87FF898D4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0D4A08-EB33-4071-B28A-F840D91CD8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85551-E848-4C1A-9162-D27011C2B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6D564-67DE-4D37-8217-4C52562A4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40A589-D16B-4049-BF44-365B28BF02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3E4D3-0570-4E4F-AC5C-2444FA75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F5CA-708D-4483-AB9D-A977B431A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5DF8E-4142-4259-A2B0-ABF946E6A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4045E-9FA7-4828-A3A7-04F5544AF8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556DD0-E835-4BE4-B3F8-912E853AC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294C1-590B-4CC0-8772-F76C3BD524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B2B4E-3EDA-415E-9EE6-EEED5E483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9310F-29DF-4FA3-836E-925164134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1189B-3DF9-4226-8768-BFA81F252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E88C7-13BE-46FB-88D8-60FDAF1F5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EDACC-69E0-45BA-A30C-B2E7EC0C4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55F43-71D0-41AE-8FA6-F144C5CB4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E449B-00B5-4C75-B67B-DF871B65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7F317-CA81-44D7-AC98-26F043E8B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01C74-6D6A-491D-B1C6-9CB51D72AB3E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1D95A-D456-44FA-8DE5-12DD21CF1CA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F40C4-432F-401E-9F68-F90385B98F79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1ADB2-E5F5-4E8C-A711-988A22FEA3B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sp>
        <p:nvSpPr>
          <p:cNvPr id="84" name="Footer Placeholder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Master footer is he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51:53Z</dcterms:created>
  <dc:creator>Michael McCandless</dc:creator>
  <dc:description/>
  <dc:language>en-US</dc:language>
  <cp:lastModifiedBy>Michael McCandless</cp:lastModifiedBy>
  <dcterms:modified xsi:type="dcterms:W3CDTF">2011-09-13T14:57:23Z</dcterms:modified>
  <cp:revision>2</cp:revision>
  <dc:subject/>
  <dc:title>Slide 1</dc:title>
</cp:coreProperties>
</file>